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8.wmf" ContentType="image/x-wmf"/>
  <Override PartName="/ppt/media/image13.png" ContentType="image/png"/>
  <Override PartName="/ppt/media/image11.png" ContentType="image/png"/>
  <Override PartName="/ppt/media/image19.wmf" ContentType="image/x-wmf"/>
  <Override PartName="/ppt/media/image17.png" ContentType="image/png"/>
  <Override PartName="/ppt/media/image10.wmf" ContentType="image/x-wmf"/>
  <Override PartName="/ppt/media/image2.png" ContentType="image/png"/>
  <Override PartName="/ppt/media/image4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1.jpeg" ContentType="image/jpeg"/>
  <Override PartName="/ppt/media/image5.png" ContentType="image/png"/>
  <Override PartName="/ppt/media/image3.png" ContentType="image/png"/>
  <Override PartName="/ppt/media/image6.jpeg" ContentType="image/jpeg"/>
  <Override PartName="/ppt/media/image18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5b6973"/>
                </a:solidFill>
                <a:latin typeface="Cambria"/>
              </a:rPr>
              <a:t>Click to move the slide</a:t>
            </a:r>
            <a:endParaRPr b="0" lang="en-US" sz="4600" spc="-1" strike="noStrike">
              <a:solidFill>
                <a:srgbClr val="5b6973"/>
              </a:solidFill>
              <a:latin typeface="Cambr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C7F46-9E39-4168-9337-C85F0A665E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2CB23-0FCD-4E33-894E-42CEED911D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73F95-12A2-4259-961F-C7E83FCA4BA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B7A18-F079-4972-9831-5D42E942B9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4440" y="682560"/>
            <a:ext cx="4572000" cy="34308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4480"/>
            <a:ext cx="5029200" cy="411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786477-6DC2-42D0-B2AD-9A1B06ECE5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b6973"/>
              </a:solidFill>
              <a:latin typeface="Cambr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66BD90-6F2A-41F4-958F-C21A126D8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b6973"/>
              </a:solidFill>
              <a:latin typeface="Cambr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E45FB7-9E07-41D6-B369-EB3E44BB1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b6973"/>
              </a:solidFill>
              <a:latin typeface="Cambr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ACA018-781E-498E-92CD-1BCD6B1C6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0A9F0-A522-4AA0-85B9-8F0813D73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b6973"/>
              </a:solidFill>
              <a:latin typeface="Cambr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57A46-C648-4193-9BEE-F3F23ADCF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b6973"/>
              </a:solidFill>
              <a:latin typeface="Cambri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B4A24-866A-4D33-BE21-6FD28165B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b6973"/>
              </a:solidFill>
              <a:latin typeface="Cambri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9EA53-FEAF-4D22-8E7A-CD90A288A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b697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3F604-C7BA-4C2A-8137-3B52C2BE7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3DFB2-3F18-47B9-8005-07A212CBA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b6973"/>
              </a:solidFill>
              <a:latin typeface="Cambr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34AD5D-07E9-429B-9A75-0F5FB74A7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b6973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B2C34D-A988-406D-9992-18AD402A3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b6973"/>
              </a:solidFill>
              <a:latin typeface="Cambri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DC70F-3128-4B9E-B77F-EFF889BEC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b6973"/>
              </a:solidFill>
              <a:latin typeface="Cambri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55B93-35F4-4F29-A0DE-C44D22458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b6973"/>
              </a:solidFill>
              <a:latin typeface="Cambri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670E6-1CF4-48CC-BC56-2213740BE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b6973"/>
              </a:solidFill>
              <a:latin typeface="Cambri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2F55D-3C12-4A6F-A76A-950FC4EE9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b6973"/>
              </a:solidFill>
              <a:latin typeface="Cambri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5B74F-C1B7-4D0B-916D-1FE0F76E9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b6973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6C4EC-7F0D-4297-ACFE-C54224EDA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b6973"/>
              </a:solidFill>
              <a:latin typeface="Cambr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72C267-4501-4943-BD8A-485D60DB9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b6973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8AD759-20CE-4E18-8B4B-9C5838401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03638B-3E3D-48A4-9077-61041EE89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b6973"/>
              </a:solidFill>
              <a:latin typeface="Cambr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9F14C2-C7A6-4383-B41D-0384FD2CD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b6973"/>
              </a:solidFill>
              <a:latin typeface="Cambr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322E9D-7AD7-4EFE-A964-7D5B8361E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5b6973"/>
              </a:solidFill>
              <a:latin typeface="Cambr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A78E87-CB85-4499-A7D4-373DE4202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5b6973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5b6973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98c7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59b0b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7f8fa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4a66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5aa2a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5b69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98c7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B2285-D07D-4CD3-ACF1-1953768E677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7eced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7eced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5b69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98c7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5b6973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5b6973"/>
              </a:solidFill>
              <a:latin typeface="Cambri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98c7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59b0b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7f8fa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4a66a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5aa2a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4A358-0EA5-4B05-8223-9CC9ADFCC90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anne.m.thompson@nasa.gov" TargetMode="Externa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croc.gsfc.nasa.gov/shadoz" TargetMode="External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447560"/>
            <a:ext cx="7353360" cy="1695240"/>
          </a:xfrm>
          <a:prstGeom prst="rect">
            <a:avLst/>
          </a:prstGeom>
          <a:noFill/>
          <a:ln w="9360">
            <a:solidFill>
              <a:srgbClr val="98c723"/>
            </a:solidFill>
            <a:miter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b6973"/>
                </a:solidFill>
                <a:latin typeface="Arial"/>
                <a:ea typeface="Arial"/>
              </a:rPr>
              <a:t>SHADOZ (Southern Hemisphere Additional Ozonesondes) Status</a:t>
            </a:r>
            <a:endParaRPr b="0" lang="en-US" sz="3600" spc="-1" strike="noStrike">
              <a:solidFill>
                <a:srgbClr val="5b6973"/>
              </a:solidFill>
              <a:latin typeface="Cambr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304560" y="3352320"/>
            <a:ext cx="7924680" cy="1752840"/>
          </a:xfrm>
          <a:prstGeom prst="rect">
            <a:avLst/>
          </a:prstGeom>
          <a:noFill/>
          <a:ln w="9360">
            <a:solidFill>
              <a:srgbClr val="cbbba1"/>
            </a:solidFill>
            <a:miter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0000"/>
                </a:solidFill>
                <a:latin typeface="Arial"/>
                <a:ea typeface="Arial"/>
              </a:rPr>
              <a:t>Anne Thompson, </a:t>
            </a:r>
            <a:r>
              <a:rPr b="0" lang="en-US" sz="2000" spc="-1" strike="noStrike" u="sng">
                <a:solidFill>
                  <a:srgbClr val="26cbec"/>
                </a:solidFill>
                <a:uFillTx/>
                <a:latin typeface="Arial"/>
                <a:ea typeface="Arial"/>
                <a:hlinkClick r:id="rId1"/>
              </a:rPr>
              <a:t>anne.m.thompson@nasa.gov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  <a:ea typeface="Arial"/>
              </a:rPr>
              <a:t>May 2014, Ozone Research Managers Mtg, Genev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70c0"/>
                </a:solidFill>
                <a:latin typeface="Arial"/>
                <a:ea typeface="Arial"/>
              </a:rPr>
              <a:t>Archiver:  J Witte, SSAI@GSFC; http://croc.gsfc.nasa.gov/shadoz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10" descr="nasa-logofullwhite"/>
          <p:cNvPicPr/>
          <p:nvPr/>
        </p:nvPicPr>
        <p:blipFill>
          <a:blip r:embed="rId2"/>
          <a:stretch/>
        </p:blipFill>
        <p:spPr>
          <a:xfrm>
            <a:off x="1666800" y="5340240"/>
            <a:ext cx="1676520" cy="129384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2" descr="SHADOZ logo"/>
          <p:cNvPicPr/>
          <p:nvPr/>
        </p:nvPicPr>
        <p:blipFill>
          <a:blip r:embed="rId3"/>
          <a:stretch/>
        </p:blipFill>
        <p:spPr>
          <a:xfrm>
            <a:off x="82440" y="5321160"/>
            <a:ext cx="1662120" cy="12477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" descr="noaalogo"/>
          <p:cNvPicPr/>
          <p:nvPr/>
        </p:nvPicPr>
        <p:blipFill>
          <a:blip r:embed="rId4"/>
          <a:stretch/>
        </p:blipFill>
        <p:spPr>
          <a:xfrm>
            <a:off x="3505320" y="5403960"/>
            <a:ext cx="1225440" cy="122544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" descr="F:\AMT-ID-Sel-BCK-11Dec11\aZA-WORK-ID2-3Dec11\Talks-10-11\NDACCLogoNew.png"/>
          <p:cNvPicPr/>
          <p:nvPr/>
        </p:nvPicPr>
        <p:blipFill>
          <a:blip r:embed="rId5"/>
          <a:stretch/>
        </p:blipFill>
        <p:spPr>
          <a:xfrm>
            <a:off x="4968720" y="5386320"/>
            <a:ext cx="1828800" cy="12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9360">
            <a:solidFill>
              <a:srgbClr val="c5e672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Recent Data Gaps:  Equipment Age, Personnel, </a:t>
            </a:r>
            <a:br>
              <a:rPr sz="2400"/>
            </a:b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Agreements, Funding</a:t>
            </a:r>
            <a:endParaRPr b="0" lang="en-US" sz="2400" spc="-1" strike="noStrike">
              <a:solidFill>
                <a:srgbClr val="5b6973"/>
              </a:solidFill>
              <a:latin typeface="Cambria"/>
            </a:endParaRPr>
          </a:p>
        </p:txBody>
      </p:sp>
      <p:pic>
        <p:nvPicPr>
          <p:cNvPr id="137" name="Picture 4" descr="SHADOZ logo"/>
          <p:cNvPicPr/>
          <p:nvPr/>
        </p:nvPicPr>
        <p:blipFill>
          <a:blip r:embed="rId1"/>
          <a:stretch/>
        </p:blipFill>
        <p:spPr>
          <a:xfrm>
            <a:off x="7772400" y="304920"/>
            <a:ext cx="1219320" cy="914400"/>
          </a:xfrm>
          <a:prstGeom prst="rect">
            <a:avLst/>
          </a:prstGeom>
          <a:ln w="0">
            <a:noFill/>
          </a:ln>
        </p:spPr>
      </p:pic>
      <p:pic>
        <p:nvPicPr>
          <p:cNvPr id="138" name="Chart 4" descr=""/>
          <p:cNvPicPr/>
          <p:nvPr/>
        </p:nvPicPr>
        <p:blipFill>
          <a:blip r:embed="rId2"/>
          <a:stretch/>
        </p:blipFill>
        <p:spPr>
          <a:xfrm>
            <a:off x="530280" y="1292400"/>
            <a:ext cx="7327800" cy="4572000"/>
          </a:xfrm>
          <a:prstGeom prst="rect">
            <a:avLst/>
          </a:prstGeom>
          <a:ln w="0">
            <a:noFill/>
          </a:ln>
        </p:spPr>
      </p:pic>
      <p:sp>
        <p:nvSpPr>
          <p:cNvPr id="139" name="TextBox 2"/>
          <p:cNvSpPr/>
          <p:nvPr/>
        </p:nvSpPr>
        <p:spPr>
          <a:xfrm>
            <a:off x="6420240" y="2895480"/>
            <a:ext cx="1950120" cy="916920"/>
          </a:xfrm>
          <a:prstGeom prst="rect">
            <a:avLst/>
          </a:prstGeom>
          <a:noFill/>
          <a:ln w="9360">
            <a:solidFill>
              <a:srgbClr val="98c7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013; Final, &gt;3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014? &gt; 3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SHADOZ Metrics, Impact, Archive - 2</a:t>
            </a:r>
            <a:endParaRPr b="0" lang="en-US" sz="3200" spc="-1" strike="noStrike">
              <a:solidFill>
                <a:srgbClr val="5b6973"/>
              </a:solidFill>
              <a:latin typeface="Cambria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20520" y="1599840"/>
            <a:ext cx="8361360" cy="487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228600">
              <a:lnSpc>
                <a:spcPct val="100000"/>
              </a:lnSpc>
              <a:spcBef>
                <a:spcPts val="601"/>
              </a:spcBef>
              <a:buClr>
                <a:srgbClr val="98c7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ublications Impact (based on 130 article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2" name="Picture 5" descr="SHADOZ_citationmetrics.tiff"/>
          <p:cNvPicPr/>
          <p:nvPr/>
        </p:nvPicPr>
        <p:blipFill>
          <a:blip r:embed="rId1"/>
          <a:stretch/>
        </p:blipFill>
        <p:spPr>
          <a:xfrm>
            <a:off x="33480" y="2286000"/>
            <a:ext cx="8501040" cy="394164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4" descr="SHADOZ logo"/>
          <p:cNvPicPr/>
          <p:nvPr/>
        </p:nvPicPr>
        <p:blipFill>
          <a:blip r:embed="rId2"/>
          <a:stretch/>
        </p:blipFill>
        <p:spPr>
          <a:xfrm>
            <a:off x="7620120" y="304920"/>
            <a:ext cx="121896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SHADOZ Archive Status, May 2014</a:t>
            </a:r>
            <a:endParaRPr b="0" lang="en-US" sz="3200" spc="-1" strike="noStrike">
              <a:solidFill>
                <a:srgbClr val="5b6973"/>
              </a:solidFill>
              <a:latin typeface="Cambria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20160" y="1371240"/>
            <a:ext cx="8589960" cy="5334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228600">
              <a:lnSpc>
                <a:spcPct val="100000"/>
              </a:lnSpc>
              <a:spcBef>
                <a:spcPts val="601"/>
              </a:spcBef>
              <a:buClr>
                <a:srgbClr val="98c7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ata gaps at 5 stations have been resolved (thanks to NOAA &amp; partners, GSFC/WFF, INPE, SA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lnSpc>
                <a:spcPct val="100000"/>
              </a:lnSpc>
              <a:spcBef>
                <a:spcPts val="499"/>
              </a:spcBef>
              <a:buClr>
                <a:srgbClr val="59b0b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fter 2008, gaps at Fiji, San Cristobal (Galapagos, Ecuador), Irene (So. Africa).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ll are operational as of 2014.  Irene since 2012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lnSpc>
                <a:spcPct val="100000"/>
              </a:lnSpc>
              <a:spcBef>
                <a:spcPts val="499"/>
              </a:spcBef>
              <a:buClr>
                <a:srgbClr val="59b0b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scension &amp; Natal gaps started in 2010. 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Natal operational, 10/1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buClr>
                <a:srgbClr val="98c7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ata Link to SHADOZ at NDACC.  WOUDC data delivery from SHADOZ complete for 2012, partial for 2013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550"/>
              </a:spcBef>
              <a:buClr>
                <a:srgbClr val="98c7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-processing underway at all stations.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“Homogenization” by WMO/ASOPOS Recommend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lnSpc>
                <a:spcPct val="100000"/>
              </a:lnSpc>
              <a:spcBef>
                <a:spcPts val="499"/>
              </a:spcBef>
              <a:buClr>
                <a:srgbClr val="59b0b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OAA – Station data delivered to SHADOZ 3/14:  Fiji, Samoa, Hilo. San Cristobal &amp; Costa Rica pending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lnSpc>
                <a:spcPct val="100000"/>
              </a:lnSpc>
              <a:spcBef>
                <a:spcPts val="499"/>
              </a:spcBef>
              <a:buClr>
                <a:srgbClr val="59b0b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Underway: Nairobi, Paramaribo, Réunion, Watukosek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lnSpc>
                <a:spcPct val="100000"/>
              </a:lnSpc>
              <a:spcBef>
                <a:spcPts val="499"/>
              </a:spcBef>
              <a:buClr>
                <a:srgbClr val="59b0b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ore complex: Kuala Lumpur, Hanoi, Natal &amp; Ascens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550"/>
              </a:spcBef>
              <a:buClr>
                <a:srgbClr val="98c7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  <a:ea typeface="Arial"/>
              </a:rPr>
              <a:t>Anticipate 2015 WMO-sonde Workshop.  JOSIE?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" name="Picture 4" descr="SHADOZ logo"/>
          <p:cNvPicPr/>
          <p:nvPr/>
        </p:nvPicPr>
        <p:blipFill>
          <a:blip r:embed="rId1"/>
          <a:stretch/>
        </p:blipFill>
        <p:spPr>
          <a:xfrm>
            <a:off x="7620120" y="304920"/>
            <a:ext cx="121896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7467480" cy="868320"/>
          </a:xfrm>
          <a:prstGeom prst="rect">
            <a:avLst/>
          </a:prstGeom>
          <a:noFill/>
          <a:ln w="9360">
            <a:solidFill>
              <a:srgbClr val="b8551d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ff0000"/>
                </a:solidFill>
                <a:latin typeface="Calibri"/>
                <a:ea typeface="Arial"/>
              </a:rPr>
              <a:t>New Technical Issues from Radiosonde Changes </a:t>
            </a:r>
            <a:endParaRPr b="0" lang="en-US" sz="2900" spc="-1" strike="noStrike">
              <a:solidFill>
                <a:srgbClr val="5b6973"/>
              </a:solidFill>
              <a:latin typeface="Cambria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-365400" y="1095120"/>
            <a:ext cx="9491400" cy="576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8000"/>
          </a:bodyPr>
          <a:p>
            <a:pPr lvl="1" marL="626760" indent="-223920">
              <a:lnSpc>
                <a:spcPct val="90000"/>
              </a:lnSpc>
              <a:spcBef>
                <a:spcPts val="499"/>
              </a:spcBef>
              <a:buClr>
                <a:srgbClr val="59b0b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03ef"/>
                </a:solidFill>
                <a:latin typeface="Calibri"/>
                <a:ea typeface="Arial"/>
              </a:rPr>
              <a:t>Background Current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(Voemel &amp; Diaz, 2009; Stuebi &amp; Levrat, 2009).  Implication for SHADOZ at certain sites.  Addressed in “homogenization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26760" indent="-223920">
              <a:lnSpc>
                <a:spcPct val="90000"/>
              </a:lnSpc>
              <a:spcBef>
                <a:spcPts val="499"/>
              </a:spcBef>
              <a:buClr>
                <a:srgbClr val="59b0b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03ef"/>
                </a:solidFill>
                <a:latin typeface="Calibri"/>
                <a:ea typeface="Arial"/>
              </a:rPr>
              <a:t>New Radiosondes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(RS80-&gt; RS92-&gt;Imet). Pressure offsets!  </a:t>
            </a:r>
            <a:r>
              <a:rPr b="1" lang="en-US" sz="2000" spc="-1" strike="noStrike">
                <a:solidFill>
                  <a:srgbClr val="ff0000"/>
                </a:solidFill>
                <a:latin typeface="Calibri"/>
                <a:ea typeface="Arial"/>
              </a:rPr>
              <a:t>Below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26760" indent="-223920">
              <a:lnSpc>
                <a:spcPct val="90000"/>
              </a:lnSpc>
              <a:spcBef>
                <a:spcPts val="499"/>
              </a:spcBef>
              <a:buClr>
                <a:srgbClr val="59b0b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f03ef"/>
                </a:solidFill>
                <a:latin typeface="Calibri"/>
                <a:ea typeface="Arial"/>
              </a:rPr>
              <a:t>Third instrument type.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Arial"/>
              </a:rPr>
              <a:t>SPC stable, ENSCI-&gt; DMT change displays operational problems  – impact on long-term record </a:t>
            </a:r>
            <a:r>
              <a:rPr b="0" lang="en-US" sz="2000" spc="-1" strike="noStrike">
                <a:solidFill>
                  <a:srgbClr val="ff0000"/>
                </a:solidFill>
                <a:latin typeface="Calibri"/>
                <a:ea typeface="Arial"/>
              </a:rPr>
              <a:t>TBD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26760" indent="-223920">
              <a:lnSpc>
                <a:spcPct val="90000"/>
              </a:lnSpc>
              <a:spcBef>
                <a:spcPts val="499"/>
              </a:spcBef>
              <a:buClr>
                <a:srgbClr val="59b0b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26760" indent="-223920">
              <a:lnSpc>
                <a:spcPct val="90000"/>
              </a:lnSpc>
              <a:spcBef>
                <a:spcPts val="499"/>
              </a:spcBef>
              <a:buClr>
                <a:srgbClr val="59b0b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26760" indent="-223920">
              <a:lnSpc>
                <a:spcPct val="90000"/>
              </a:lnSpc>
              <a:spcBef>
                <a:spcPts val="499"/>
              </a:spcBef>
              <a:buClr>
                <a:srgbClr val="59b0b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26760" indent="-223920">
              <a:lnSpc>
                <a:spcPct val="90000"/>
              </a:lnSpc>
              <a:spcBef>
                <a:spcPts val="499"/>
              </a:spcBef>
              <a:buClr>
                <a:srgbClr val="59b0b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26760" indent="-223920">
              <a:lnSpc>
                <a:spcPct val="90000"/>
              </a:lnSpc>
              <a:spcBef>
                <a:spcPts val="499"/>
              </a:spcBef>
              <a:buClr>
                <a:srgbClr val="59b0b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26760" indent="-223920">
              <a:lnSpc>
                <a:spcPct val="90000"/>
              </a:lnSpc>
              <a:spcBef>
                <a:spcPts val="499"/>
              </a:spcBef>
              <a:buClr>
                <a:srgbClr val="59b0b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26760" indent="-223920">
              <a:lnSpc>
                <a:spcPct val="90000"/>
              </a:lnSpc>
              <a:spcBef>
                <a:spcPts val="499"/>
              </a:spcBef>
              <a:buClr>
                <a:srgbClr val="59b0b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26760" indent="-223920">
              <a:lnSpc>
                <a:spcPct val="90000"/>
              </a:lnSpc>
              <a:spcBef>
                <a:spcPts val="499"/>
              </a:spcBef>
              <a:buClr>
                <a:srgbClr val="59b0b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26760" indent="-223920">
              <a:lnSpc>
                <a:spcPct val="90000"/>
              </a:lnSpc>
              <a:spcBef>
                <a:spcPts val="499"/>
              </a:spcBef>
              <a:buClr>
                <a:srgbClr val="59b0b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26760" indent="-22392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26760" indent="-223920">
              <a:lnSpc>
                <a:spcPct val="90000"/>
              </a:lnSpc>
              <a:spcBef>
                <a:spcPts val="550"/>
              </a:spcBef>
              <a:buClr>
                <a:srgbClr val="59b0b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Stauffer et al., AMT, doi:10.5194/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26760" indent="-223920">
              <a:lnSpc>
                <a:spcPct val="90000"/>
              </a:lnSpc>
              <a:spcBef>
                <a:spcPts val="550"/>
              </a:spcBef>
              <a:buClr>
                <a:srgbClr val="59b0b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mt-7-65-2014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26760" indent="-223920">
              <a:lnSpc>
                <a:spcPct val="90000"/>
              </a:lnSpc>
              <a:spcBef>
                <a:spcPts val="499"/>
              </a:spcBef>
              <a:buClr>
                <a:srgbClr val="59b0b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26760" indent="-223920">
              <a:lnSpc>
                <a:spcPct val="90000"/>
              </a:lnSpc>
              <a:spcBef>
                <a:spcPts val="499"/>
              </a:spcBef>
              <a:buClr>
                <a:srgbClr val="59b0b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26760" indent="-223920">
              <a:lnSpc>
                <a:spcPct val="90000"/>
              </a:lnSpc>
              <a:spcBef>
                <a:spcPts val="499"/>
              </a:spcBef>
              <a:buClr>
                <a:srgbClr val="59b0b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26760" indent="-223920">
              <a:lnSpc>
                <a:spcPct val="90000"/>
              </a:lnSpc>
              <a:spcBef>
                <a:spcPts val="476"/>
              </a:spcBef>
              <a:buClr>
                <a:srgbClr val="59b0b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626760" indent="-223920">
              <a:lnSpc>
                <a:spcPct val="90000"/>
              </a:lnSpc>
              <a:spcBef>
                <a:spcPts val="476"/>
              </a:spcBef>
              <a:buClr>
                <a:srgbClr val="59b0b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626760" indent="-223920">
              <a:lnSpc>
                <a:spcPct val="90000"/>
              </a:lnSpc>
              <a:spcBef>
                <a:spcPts val="476"/>
              </a:spcBef>
              <a:buClr>
                <a:srgbClr val="59b0b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626760" indent="-223920">
              <a:lnSpc>
                <a:spcPct val="90000"/>
              </a:lnSpc>
              <a:spcBef>
                <a:spcPts val="476"/>
              </a:spcBef>
              <a:buClr>
                <a:srgbClr val="59b0b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626760" indent="-223920">
              <a:lnSpc>
                <a:spcPct val="90000"/>
              </a:lnSpc>
              <a:spcBef>
                <a:spcPts val="476"/>
              </a:spcBef>
              <a:buClr>
                <a:srgbClr val="59b0b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626760" indent="-223920">
              <a:lnSpc>
                <a:spcPct val="90000"/>
              </a:lnSpc>
              <a:spcBef>
                <a:spcPts val="476"/>
              </a:spcBef>
              <a:buClr>
                <a:srgbClr val="59b0b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626760" indent="-223920">
              <a:lnSpc>
                <a:spcPct val="90000"/>
              </a:lnSpc>
              <a:spcBef>
                <a:spcPts val="476"/>
              </a:spcBef>
              <a:buClr>
                <a:srgbClr val="59b0b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626760" indent="-223920">
              <a:lnSpc>
                <a:spcPct val="90000"/>
              </a:lnSpc>
              <a:spcBef>
                <a:spcPts val="476"/>
              </a:spcBef>
              <a:buClr>
                <a:srgbClr val="59b0b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626760" indent="-223920">
              <a:lnSpc>
                <a:spcPct val="90000"/>
              </a:lnSpc>
              <a:spcBef>
                <a:spcPts val="476"/>
              </a:spcBef>
              <a:buClr>
                <a:srgbClr val="59b0b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626760" indent="-223920">
              <a:lnSpc>
                <a:spcPct val="90000"/>
              </a:lnSpc>
              <a:spcBef>
                <a:spcPts val="476"/>
              </a:spcBef>
              <a:buClr>
                <a:srgbClr val="59b0b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lvl="1" marL="626760" indent="-223920"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9" name="Picture 7" descr="E:\TTL-prep-ColU-PS\panama_pressure_offset_vs_alt_20070727.tif"/>
          <p:cNvPicPr/>
          <p:nvPr/>
        </p:nvPicPr>
        <p:blipFill>
          <a:blip r:embed="rId1"/>
          <a:srcRect l="0" t="0" r="15560" b="0"/>
          <a:stretch/>
        </p:blipFill>
        <p:spPr>
          <a:xfrm>
            <a:off x="4114800" y="2836800"/>
            <a:ext cx="2819520" cy="24624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5" descr="E:\TTL-prep-ColU-PS\panama_o3pp_offset_vs_alt_20070727.tif"/>
          <p:cNvPicPr/>
          <p:nvPr/>
        </p:nvPicPr>
        <p:blipFill>
          <a:blip r:embed="rId2"/>
          <a:stretch/>
        </p:blipFill>
        <p:spPr>
          <a:xfrm>
            <a:off x="6934320" y="4370400"/>
            <a:ext cx="2396880" cy="2235240"/>
          </a:xfrm>
          <a:prstGeom prst="rect">
            <a:avLst/>
          </a:prstGeom>
          <a:ln w="0">
            <a:noFill/>
          </a:ln>
        </p:spPr>
      </p:pic>
      <p:sp>
        <p:nvSpPr>
          <p:cNvPr id="151" name="TextBox 2"/>
          <p:cNvSpPr/>
          <p:nvPr/>
        </p:nvSpPr>
        <p:spPr>
          <a:xfrm>
            <a:off x="5267880" y="6172200"/>
            <a:ext cx="2070360" cy="368280"/>
          </a:xfrm>
          <a:prstGeom prst="rect">
            <a:avLst/>
          </a:prstGeom>
          <a:noFill/>
          <a:ln w="93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7-8% correction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2" descr="C:\Users\rms5539\Application Data\SSH\temp\fig5.eps"/>
          <p:cNvPicPr/>
          <p:nvPr/>
        </p:nvPicPr>
        <p:blipFill>
          <a:blip r:embed="rId3"/>
          <a:srcRect l="6159" t="5443" r="7537" b="0"/>
          <a:stretch/>
        </p:blipFill>
        <p:spPr>
          <a:xfrm>
            <a:off x="0" y="2819520"/>
            <a:ext cx="3924360" cy="2936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9360">
            <a:solidFill>
              <a:srgbClr val="98c723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SHADOZ Status Summary </a:t>
            </a:r>
            <a:endParaRPr b="0" lang="en-US" sz="3200" spc="-1" strike="noStrike">
              <a:solidFill>
                <a:srgbClr val="5b6973"/>
              </a:solidFill>
              <a:latin typeface="Cambri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31680" y="1447560"/>
            <a:ext cx="82742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100000"/>
              </a:lnSpc>
              <a:spcBef>
                <a:spcPts val="601"/>
              </a:spcBef>
              <a:buClr>
                <a:srgbClr val="98c7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ore than 6000 Ozone-PTU Profiles Sets at SHADOZ &amp; WOUDC Archives.  NDACC Link.  1998-201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buClr>
                <a:srgbClr val="98c7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ata are key to satellite validation and trends in troposphere &amp; lower stratosphere.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buClr>
                <a:srgbClr val="98c7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echnical reliability of ozonesonde measurement is improved by JOSIE, ASOPOS and other WMO activi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buClr>
                <a:srgbClr val="98c7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urther enhancement through 2013-2014 “Data Homogenization” effor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buClr>
                <a:srgbClr val="98c7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HADOZ exploring affiliation with GRUAN (new radio-sonde issue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buClr>
                <a:srgbClr val="98c7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anagers!  “Mind the Gap!”  (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revent Gap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5" name="Picture 4" descr="SHADOZ logo"/>
          <p:cNvPicPr/>
          <p:nvPr/>
        </p:nvPicPr>
        <p:blipFill>
          <a:blip r:embed="rId1"/>
          <a:stretch/>
        </p:blipFill>
        <p:spPr>
          <a:xfrm>
            <a:off x="7620120" y="112680"/>
            <a:ext cx="1295280" cy="95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0000" y="0"/>
            <a:ext cx="8672760" cy="1371600"/>
          </a:xfrm>
          <a:prstGeom prst="rect">
            <a:avLst/>
          </a:prstGeom>
          <a:noFill/>
          <a:ln w="9360">
            <a:solidFill>
              <a:srgbClr val="72951a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Calibri"/>
              </a:rPr>
              <a:t>THANK YOU FOR YOUR ATTENTION!</a:t>
            </a:r>
            <a:br>
              <a:rPr sz="3200"/>
            </a:br>
            <a:r>
              <a:rPr b="1" lang="en-US" sz="3200" spc="-1" strike="noStrike">
                <a:solidFill>
                  <a:srgbClr val="5b6973"/>
                </a:solidFill>
                <a:latin typeface="Calibri"/>
              </a:rPr>
              <a:t>Acknowledgments &amp; References</a:t>
            </a:r>
            <a:endParaRPr b="0" lang="en-US" sz="3200" spc="-1" strike="noStrike">
              <a:solidFill>
                <a:srgbClr val="5b6973"/>
              </a:solidFill>
              <a:latin typeface="Cambria"/>
            </a:endParaRPr>
          </a:p>
        </p:txBody>
      </p:sp>
      <p:sp>
        <p:nvSpPr>
          <p:cNvPr id="157" name="Rectangle 7"/>
          <p:cNvSpPr/>
          <p:nvPr/>
        </p:nvSpPr>
        <p:spPr>
          <a:xfrm>
            <a:off x="90360" y="1447920"/>
            <a:ext cx="8991720" cy="6181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Support from NASA, NOAA, with JOSIE and O3-DQA sponsored by WM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J. Aschmann et al., Hiatus in the acceleration of tropical upwelling in the 21st century, 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Atmos. Chem. Phys. Disc.,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2014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C. Gebhardt, et al., Stratospheric ozone trends and variability as seen by SCIAMACHY from 2002-2011, Atmos. Chem. Phys., 14, 831-846, 2014. doi: 10.519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H. G. J. Smit et al, Assessment of the performance of ECC-ozonesondes under quasi-flight conditions in the environmental simulation chamber: Insights from the Jülich Ozone Sonde Intercomparison Experiment, </a:t>
            </a:r>
            <a:r>
              <a:rPr b="1" i="1" lang="fr-FR" sz="1600" spc="-1" strike="noStrike">
                <a:solidFill>
                  <a:srgbClr val="000000"/>
                </a:solidFill>
                <a:latin typeface="Arial"/>
              </a:rPr>
              <a:t>JGR,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112. D19306, doi: 10.1029/ 2006JD007308, 2007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</a:rPr>
              <a:t>R. M. Stauffer et al.,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ropagation of radiosonde pressure sensor errors to ozonesonde measurement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tmos. Meas. Tech., 7,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65-79. 2014. 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doi:10.5194/amt-7-65-2014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A. M. Thompson et al,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Southern Hemisphere ADditional Ozonesondes (SHADOZ) 1998-2000 tropical ozone climatology.  1. Comparison with TOMS and ground-based measurements,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JGR,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108, 8238, doi: 10.1029/ 2001JD000967, </a:t>
            </a:r>
            <a:r>
              <a:rPr b="1" lang="fr-FR" sz="1600" spc="-1" strike="noStrike">
                <a:solidFill>
                  <a:srgbClr val="000000"/>
                </a:solidFill>
                <a:latin typeface="Arial"/>
                <a:ea typeface="Arial"/>
              </a:rPr>
              <a:t>2003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. M. Thompson, et al., Southern Hemisphere Additional Ozonesondes (SHADOZ) 1998-2004 tropical ozone climatology.  3. Instrumentation, station variability, evaluation with simulated flight profiles,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JGR,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112, D03304, doi: 10.1029/ 2005JD007042, 2007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. M. Thompson et al., Strategic ozone sounding networks: Review of design and accomplishments,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Atmos. Environ.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45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2145-2163, 2011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. M. Thompson et al., SHADOZ (Southern Hemisphere Additional Ozonesondes) ozone climatology (2005-2009): Tropospheric and lower stratospheric profiles with comparisons to OMI-based ozone products, J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GR,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17, D23301,  doi: 10.1029/2011JD016911, 2012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. M. Thompson et al., Is tropospheric ozone over southern Africa really increasing?  Evidence from sonde and aircraft profiles,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tmos. Chem. Phys.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isc., 2014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8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285840" indent="-285840">
              <a:lnSpc>
                <a:spcPct val="90000"/>
              </a:lnSpc>
              <a:spcBef>
                <a:spcPts val="349"/>
              </a:spcBef>
              <a:buClr>
                <a:srgbClr val="e7ece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f2354"/>
                </a:solidFill>
                <a:latin typeface="Arial Unicode MS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" descr="SHADOZ logo"/>
          <p:cNvPicPr/>
          <p:nvPr/>
        </p:nvPicPr>
        <p:blipFill>
          <a:blip r:embed="rId1"/>
          <a:stretch/>
        </p:blipFill>
        <p:spPr>
          <a:xfrm>
            <a:off x="7467480" y="0"/>
            <a:ext cx="144792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7480" cy="868320"/>
          </a:xfrm>
          <a:prstGeom prst="rect">
            <a:avLst/>
          </a:prstGeom>
          <a:noFill/>
          <a:ln w="9360">
            <a:solidFill>
              <a:srgbClr val="b8551d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6973"/>
                </a:solidFill>
                <a:latin typeface="Arial"/>
                <a:ea typeface="Arial"/>
              </a:rPr>
              <a:t>Outline of Presentation</a:t>
            </a:r>
            <a:endParaRPr b="0" lang="en-US" sz="3200" spc="-1" strike="noStrike">
              <a:solidFill>
                <a:srgbClr val="5b6973"/>
              </a:solidFill>
              <a:latin typeface="Cambria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28600" y="1294920"/>
            <a:ext cx="7848720" cy="5410440"/>
          </a:xfrm>
          <a:prstGeom prst="rect">
            <a:avLst/>
          </a:prstGeom>
          <a:noFill/>
          <a:ln w="9360">
            <a:solidFill>
              <a:srgbClr val="98c723"/>
            </a:solidFill>
            <a:miter/>
          </a:ln>
        </p:spPr>
        <p:txBody>
          <a:bodyPr anchor="t">
            <a:normAutofit fontScale="99000"/>
          </a:bodyPr>
          <a:p>
            <a:pPr marL="339480" indent="-226080">
              <a:lnSpc>
                <a:spcPct val="90000"/>
              </a:lnSpc>
              <a:spcBef>
                <a:spcPts val="550"/>
              </a:spcBef>
              <a:buClr>
                <a:srgbClr val="98c7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  <a:ea typeface="Arial"/>
              </a:rPr>
              <a:t>What, Why, Where, Who of SHADOZ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226080">
              <a:lnSpc>
                <a:spcPct val="90000"/>
              </a:lnSpc>
              <a:spcBef>
                <a:spcPts val="550"/>
              </a:spcBef>
              <a:buClr>
                <a:srgbClr val="98c7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  <a:ea typeface="Arial"/>
              </a:rPr>
              <a:t>Compelling New Science: “UT/LS,” Air Qualit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39480" indent="-226080">
              <a:lnSpc>
                <a:spcPct val="90000"/>
              </a:lnSpc>
              <a:spcBef>
                <a:spcPts val="550"/>
              </a:spcBef>
              <a:buClr>
                <a:srgbClr val="98c7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  <a:ea typeface="Arial"/>
              </a:rPr>
              <a:t>Metrics, Impact, Archive Update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3240" indent="-226080">
              <a:lnSpc>
                <a:spcPct val="90000"/>
              </a:lnSpc>
              <a:spcBef>
                <a:spcPts val="499"/>
              </a:spcBef>
              <a:buClr>
                <a:srgbClr val="59b0b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activation of St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33240" indent="-226080">
              <a:lnSpc>
                <a:spcPct val="90000"/>
              </a:lnSpc>
              <a:spcBef>
                <a:spcPts val="499"/>
              </a:spcBef>
              <a:buClr>
                <a:srgbClr val="59b0b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a Re-processing by WMO/NDACC Sonde Guidelines. Focus on 3 variables (</a:t>
            </a:r>
            <a:r>
              <a:rPr b="0" lang="en-US" sz="2000" spc="-1" strike="noStrike">
                <a:solidFill>
                  <a:srgbClr val="648086"/>
                </a:solidFill>
                <a:latin typeface="Arial"/>
                <a:ea typeface="Arial"/>
              </a:rPr>
              <a:t>Sensing Solution Type [SST], Instrument type, Pump Correction Factor [PCF]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).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226080">
              <a:lnSpc>
                <a:spcPct val="90000"/>
              </a:lnSpc>
              <a:spcBef>
                <a:spcPts val="550"/>
              </a:spcBef>
              <a:buClr>
                <a:srgbClr val="98c7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  <a:ea typeface="Arial"/>
              </a:rPr>
              <a:t>Radiosonde Variations &amp; Impact on SHADOZ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3240" indent="-226080">
              <a:lnSpc>
                <a:spcPct val="90000"/>
              </a:lnSpc>
              <a:spcBef>
                <a:spcPts val="499"/>
              </a:spcBef>
              <a:buClr>
                <a:srgbClr val="59b0b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ackground Current. Implication for SHADOZ at certain site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33240" indent="-226080">
              <a:lnSpc>
                <a:spcPct val="90000"/>
              </a:lnSpc>
              <a:spcBef>
                <a:spcPts val="499"/>
              </a:spcBef>
              <a:buClr>
                <a:srgbClr val="59b0b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w Radiosondes (RS80-&gt; RS92-&gt;Imet).  “Pressure Offsets”  - new ‘paper in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M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(Stauffer et al, 2014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33240" indent="-226080">
              <a:lnSpc>
                <a:spcPct val="90000"/>
              </a:lnSpc>
              <a:spcBef>
                <a:spcPts val="499"/>
              </a:spcBef>
              <a:buClr>
                <a:srgbClr val="59b0b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ird (new) instrument type.  SPC stable, ENSCI-&gt; DMT ?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226080">
              <a:lnSpc>
                <a:spcPct val="90000"/>
              </a:lnSpc>
              <a:spcBef>
                <a:spcPts val="550"/>
              </a:spcBef>
              <a:buClr>
                <a:srgbClr val="98c7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  <a:ea typeface="Arial"/>
              </a:rPr>
              <a:t>Summary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– SHADOZ at Year 16.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33240" indent="-226080">
              <a:lnSpc>
                <a:spcPct val="90000"/>
              </a:lnSpc>
              <a:spcBef>
                <a:spcPts val="499"/>
              </a:spcBef>
              <a:buClr>
                <a:srgbClr val="59b0b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ssential to detect UT/LS ozone-climate change; pollution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33240" indent="-226080">
              <a:lnSpc>
                <a:spcPct val="90000"/>
              </a:lnSpc>
              <a:spcBef>
                <a:spcPts val="499"/>
              </a:spcBef>
              <a:buClr>
                <a:srgbClr val="59b0b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nstrument changes will require periodic re-process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33240" indent="-226080">
              <a:lnSpc>
                <a:spcPct val="90000"/>
              </a:lnSpc>
              <a:spcBef>
                <a:spcPts val="499"/>
              </a:spcBef>
              <a:buClr>
                <a:srgbClr val="59b0b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nagement Need:  Program to avoid gap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1026"/>
          <p:cNvSpPr/>
          <p:nvPr/>
        </p:nvSpPr>
        <p:spPr>
          <a:xfrm>
            <a:off x="609480" y="152280"/>
            <a:ext cx="8001000" cy="990720"/>
          </a:xfrm>
          <a:prstGeom prst="rect">
            <a:avLst/>
          </a:prstGeom>
          <a:noFill/>
          <a:ln w="12600">
            <a:solidFill>
              <a:srgbClr val="598c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ntegrated Earth Observing for Oz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0" y="1371600"/>
            <a:ext cx="91440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15000"/>
          </a:bodyPr>
          <a:p>
            <a:pPr marL="7020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7020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7020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7020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  <a:ea typeface="Arial"/>
              </a:rPr>
              <a:t>                                                                                            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7020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7020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3399"/>
                </a:solidFill>
                <a:latin typeface="Arial"/>
                <a:ea typeface="Arial"/>
              </a:rPr>
              <a:t>                                                                                                  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lvl="4" marL="32760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4" marL="327600" indent="-70200">
              <a:lnSpc>
                <a:spcPct val="90000"/>
              </a:lnSpc>
              <a:spcBef>
                <a:spcPts val="275"/>
              </a:spcBef>
              <a:buClr>
                <a:srgbClr val="5aa2ae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70c0"/>
                </a:solidFill>
                <a:latin typeface="Arial"/>
                <a:ea typeface="Arial"/>
              </a:rPr>
              <a:t>Measu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7020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7020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70c0"/>
                </a:solidFill>
                <a:latin typeface="Arial"/>
                <a:ea typeface="Arial"/>
              </a:rPr>
              <a:t>Measure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7020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70c0"/>
                </a:solidFill>
                <a:latin typeface="Arial"/>
                <a:ea typeface="Arial"/>
              </a:rPr>
              <a:t>Mode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7020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70c0"/>
                </a:solidFill>
                <a:latin typeface="Arial"/>
                <a:ea typeface="Arial"/>
              </a:rPr>
              <a:t>Predict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70200" indent="-70200">
              <a:lnSpc>
                <a:spcPct val="90000"/>
              </a:lnSpc>
              <a:spcBef>
                <a:spcPts val="499"/>
              </a:spcBef>
              <a:buClr>
                <a:srgbClr val="98c7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atellites with ground-based (eg Dobson) instruments for total colum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70200" indent="-70200">
              <a:lnSpc>
                <a:spcPct val="90000"/>
              </a:lnSpc>
              <a:spcBef>
                <a:spcPts val="499"/>
              </a:spcBef>
              <a:buClr>
                <a:srgbClr val="98c7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file validation - partial columns (lidar, aircraft); only sonde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7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easure surface to 5-10 hPa (35 km) with 50-100 m vertical resol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3" name="Picture 1037" descr="IGACO"/>
          <p:cNvPicPr/>
          <p:nvPr/>
        </p:nvPicPr>
        <p:blipFill>
          <a:blip r:embed="rId1"/>
          <a:stretch/>
        </p:blipFill>
        <p:spPr>
          <a:xfrm>
            <a:off x="1295280" y="1066680"/>
            <a:ext cx="6715080" cy="4386240"/>
          </a:xfrm>
          <a:prstGeom prst="rect">
            <a:avLst/>
          </a:prstGeom>
          <a:ln w="0">
            <a:noFill/>
          </a:ln>
        </p:spPr>
      </p:pic>
      <p:sp>
        <p:nvSpPr>
          <p:cNvPr id="104" name="Oval 4"/>
          <p:cNvSpPr/>
          <p:nvPr/>
        </p:nvSpPr>
        <p:spPr>
          <a:xfrm>
            <a:off x="4038480" y="1447920"/>
            <a:ext cx="1219320" cy="838080"/>
          </a:xfrm>
          <a:prstGeom prst="ellipse">
            <a:avLst/>
          </a:prstGeom>
          <a:noFill/>
          <a:ln w="2844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10" descr="sonde"/>
          <p:cNvPicPr/>
          <p:nvPr/>
        </p:nvPicPr>
        <p:blipFill>
          <a:blip r:embed="rId2"/>
          <a:stretch/>
        </p:blipFill>
        <p:spPr>
          <a:xfrm>
            <a:off x="138240" y="3124080"/>
            <a:ext cx="1004760" cy="1162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6" name="Object 1"/>
          <p:cNvGraphicFramePr/>
          <p:nvPr/>
        </p:nvGraphicFramePr>
        <p:xfrm>
          <a:off x="14400" y="1900080"/>
          <a:ext cx="1252440" cy="914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7" name="Object 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400" y="1900080"/>
                    <a:ext cx="125244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15328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Why &amp; How: SHADOZ Initiative: Validate 1-2 Generations of Ozone Satellites </a:t>
            </a:r>
            <a:endParaRPr b="0" lang="en-US" sz="3200" spc="-1" strike="noStrike">
              <a:solidFill>
                <a:srgbClr val="5b6973"/>
              </a:solidFill>
              <a:latin typeface="Cambri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0" y="1154160"/>
            <a:ext cx="8894880" cy="5105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228600">
              <a:lnSpc>
                <a:spcPct val="100000"/>
              </a:lnSpc>
              <a:spcBef>
                <a:spcPts val="499"/>
              </a:spcBef>
              <a:buClr>
                <a:srgbClr val="98c7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trategic” ozonesonde network coordinates launches in space &amp; time for specific scientific purpos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499"/>
              </a:spcBef>
              <a:buClr>
                <a:srgbClr val="98c7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hat is role of dynamics in ozone variability? Need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2-5 launches/mont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499"/>
              </a:spcBef>
              <a:buClr>
                <a:srgbClr val="98c7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ACTICAL CONSTRAIN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lnSpc>
                <a:spcPct val="100000"/>
              </a:lnSpc>
              <a:spcBef>
                <a:spcPts val="499"/>
              </a:spcBef>
              <a:buClr>
                <a:srgbClr val="59b0b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erational – host supplies ground stations, launch gas, personn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lnSpc>
                <a:spcPct val="100000"/>
              </a:lnSpc>
              <a:spcBef>
                <a:spcPts val="499"/>
              </a:spcBef>
              <a:buClr>
                <a:srgbClr val="59b0b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ASA/NOAA supply *some* sondes – ALL data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ope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@ GSF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lnSpc>
                <a:spcPct val="100000"/>
              </a:lnSpc>
              <a:spcBef>
                <a:spcPts val="499"/>
              </a:spcBef>
              <a:buClr>
                <a:srgbClr val="59b0b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everaging resources key to sustaining networ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lnSpc>
                <a:spcPct val="100000"/>
              </a:lnSpc>
              <a:spcBef>
                <a:spcPts val="499"/>
              </a:spcBef>
              <a:buClr>
                <a:srgbClr val="59b0b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550"/>
              </a:spcBef>
              <a:buClr>
                <a:srgbClr val="98c7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10" descr=""/>
          <p:cNvPicPr/>
          <p:nvPr/>
        </p:nvPicPr>
        <p:blipFill>
          <a:blip r:embed="rId1"/>
          <a:stretch/>
        </p:blipFill>
        <p:spPr>
          <a:xfrm>
            <a:off x="2209680" y="3706920"/>
            <a:ext cx="4554720" cy="315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28440">
            <a:solidFill>
              <a:srgbClr val="72951a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Where, When, Who: SHADOZ Stations &amp; Data Archive </a:t>
            </a:r>
            <a:endParaRPr b="0" lang="en-US" sz="3200" spc="-1" strike="noStrike">
              <a:solidFill>
                <a:srgbClr val="5b6973"/>
              </a:solidFill>
              <a:latin typeface="Cambria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231480" y="1599840"/>
            <a:ext cx="8723160" cy="5257800"/>
          </a:xfrm>
          <a:prstGeom prst="rect">
            <a:avLst/>
          </a:prstGeom>
          <a:noFill/>
          <a:ln w="12600">
            <a:solidFill>
              <a:srgbClr val="72951a"/>
            </a:solidFill>
            <a:miter/>
          </a:ln>
        </p:spPr>
        <p:txBody>
          <a:bodyPr anchor="t">
            <a:normAutofit/>
          </a:bodyPr>
          <a:p>
            <a:pPr marL="343080" indent="-228600">
              <a:spcBef>
                <a:spcPts val="601"/>
              </a:spcBef>
              <a:buClr>
                <a:srgbClr val="98c7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98c7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98c7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98c7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98c7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98c7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601"/>
              </a:spcBef>
              <a:buClr>
                <a:srgbClr val="98c7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499"/>
              </a:spcBef>
              <a:buClr>
                <a:srgbClr val="98c7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WHERE &amp; WHEN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are the data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51"/>
              </a:spcBef>
              <a:buClr>
                <a:srgbClr val="59b0b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13 stations operational.  15 in 2005-2009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[Thompson et al, JGR, 2012]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639720" indent="-228600">
              <a:spcBef>
                <a:spcPts val="499"/>
              </a:spcBef>
              <a:buClr>
                <a:srgbClr val="59b0b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26cbec"/>
                </a:solidFill>
                <a:uFillTx/>
                <a:latin typeface="Calibri"/>
                <a:hlinkClick r:id="rId1"/>
              </a:rPr>
              <a:t>http://croc.gsfc.nasa.gov/shadoz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.   Annual -&gt; WOUDC, with links to NDACC, AVDC.  </a:t>
            </a: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In 2014 &gt; 6K P-T-U &amp; O</a:t>
            </a:r>
            <a:r>
              <a:rPr b="1" lang="en-US" sz="2000" spc="-1" strike="noStrike" baseline="-25000">
                <a:solidFill>
                  <a:srgbClr val="0070c0"/>
                </a:solidFill>
                <a:latin typeface="Calibri"/>
              </a:rPr>
              <a:t>3</a:t>
            </a:r>
            <a:r>
              <a:rPr b="1" lang="en-US" sz="2000" spc="-1" strike="noStrike">
                <a:solidFill>
                  <a:srgbClr val="0070c0"/>
                </a:solidFill>
                <a:latin typeface="Calibri"/>
              </a:rPr>
              <a:t> profile se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499"/>
              </a:spcBef>
              <a:buClr>
                <a:srgbClr val="98c7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alibri"/>
              </a:rPr>
              <a:t>WHO: 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Anne Thompson, PI; Jacquie Witte, Archiver &amp; International Team from host countries (Cen. &amp; So. Am., Africa) &amp; sponsors (Europe, US, Japan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spcBef>
                <a:spcPts val="499"/>
              </a:spcBef>
              <a:buClr>
                <a:srgbClr val="98c7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Picture 2" descr="shadoz_orangemap.pdf"/>
          <p:cNvPicPr/>
          <p:nvPr/>
        </p:nvPicPr>
        <p:blipFill>
          <a:blip r:embed="rId2"/>
          <a:srcRect l="10211" t="20000" r="9664" b="32867"/>
          <a:stretch/>
        </p:blipFill>
        <p:spPr>
          <a:xfrm>
            <a:off x="990720" y="1371600"/>
            <a:ext cx="7213320" cy="3276720"/>
          </a:xfrm>
          <a:prstGeom prst="rect">
            <a:avLst/>
          </a:prstGeom>
          <a:ln w="9360">
            <a:solidFill>
              <a:srgbClr val="e7ece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4" name=""/>
          <p:cNvGraphicFramePr/>
          <p:nvPr/>
        </p:nvGraphicFramePr>
        <p:xfrm>
          <a:off x="0" y="0"/>
          <a:ext cx="9144000" cy="6394320"/>
        </p:xfrm>
        <a:graphic>
          <a:graphicData uri="http://schemas.openxmlformats.org/drawingml/2006/table">
            <a:tbl>
              <a:tblPr/>
              <a:tblGrid>
                <a:gridCol w="855720"/>
                <a:gridCol w="1073160"/>
                <a:gridCol w="2579760"/>
                <a:gridCol w="752400"/>
                <a:gridCol w="536400"/>
                <a:gridCol w="908280"/>
                <a:gridCol w="1658880"/>
                <a:gridCol w="779400"/>
              </a:tblGrid>
              <a:tr h="613800"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pic of Stud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tion*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-I/Sponsor**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HADOZ start yea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t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art yea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twork affiliation **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cillary data/UACO variabl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pected sonde freq./yea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</a:tr>
              <a:tr h="396360">
                <a:tc rowSpan="7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ng-term Validation / Trend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Data available prior to 1995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uala Lumpu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7d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znorizan bt Mohamad, &amp; YY Toh, Malaysian Met., S. Yonemura, Japa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7d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7d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7d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7d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7d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7d0"/>
                    </a:solidFill>
                  </a:tcPr>
                </a:tc>
              </a:tr>
              <a:tr h="440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atukosek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7d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inong Komala, LAPAN &amp; Masatomo Fujiwara, Hokkaido Univ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7d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7d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7d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W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7d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FH-water vapor profil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7d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7d0"/>
                    </a:solidFill>
                  </a:tcPr>
                </a:tc>
              </a:tr>
              <a:tr h="441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m. Samo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7d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yan Johnson &amp; Samuel J. Oltmans, NO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7d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7d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7d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DACC / GA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7d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bson / surface CO2, CH4, CO, CFCs, O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7d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cf7d0"/>
                    </a:solidFill>
                  </a:tcPr>
                </a:tc>
              </a:tr>
              <a:tr h="396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t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8e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ancis J. Schmidlin, NASA/Wallops &amp; Neusa Paes Leme, IN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8e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8e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7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8e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DAC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8e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ew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8e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8e0"/>
                    </a:solidFill>
                  </a:tcPr>
                </a:tc>
              </a:tr>
              <a:tr h="700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il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. Johnson , D. Hurst &amp; S. J. Oltmans, NO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8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DACC / GA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LO – Dobson, FTIR, O3 Lidar, </a:t>
                      </a: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FH-water vapor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/ surface CO2, CH4, CO, CFCs, O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4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ren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.J.R. Coetzee, S. African Weather Serv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bs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6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 Reunion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ançoise Posny, Université de La Réun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DAC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OZ, O3 Lida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5840">
                <a:tc rowSpan="7"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esses in the FT, TTL, and 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fbfb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j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. Johnson &amp; S. J. Oltmans, NO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ce6f2"/>
                    </a:solidFill>
                  </a:tcPr>
                </a:tc>
              </a:tr>
              <a:tr h="439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n Jose***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3c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nnie Selkirk, NASA/GSFC &amp; Holger Vömel, GRUAN Lead Cen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3c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3c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3c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UA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3c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2 sondes, </a:t>
                      </a: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FH-water vapor profil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3c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3c5"/>
                    </a:solidFill>
                  </a:tcPr>
                </a:tc>
              </a:tr>
              <a:tr h="396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n Cristob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3c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. Johnson (NOAA) &amp; H. Voeme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3c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3c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3c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UAN / SOW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3c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FH-water vapor profil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3c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3c5"/>
                    </a:solidFill>
                  </a:tcPr>
                </a:tc>
              </a:tr>
              <a:tr h="2700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amarib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3c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nus Scheele, KNM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3c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3c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3c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DAC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3c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ew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3c5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3c5"/>
                    </a:solidFill>
                  </a:tcPr>
                </a:tc>
              </a:tr>
              <a:tr h="396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cension I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ancis J. Schmidlin, NASA/Wallop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CCON / GAW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rbon columns / surface CO2, CH4, CO, CFC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</a:tr>
              <a:tr h="3963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airob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rtrand Calpini, MeteoSwiss &amp; John Nguyo, KM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bson, surface O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eada"/>
                    </a:solidFill>
                  </a:tcPr>
                </a:tc>
              </a:tr>
              <a:tr h="548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a Noi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. Gia Hiep, AMO, S. Ogino, JAMSTEC, M. Fujiwara, Hokkaido Univ., &amp; M. Shiotani, RIS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W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FH-water vapor profil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15" name="TextBox 2"/>
          <p:cNvSpPr/>
          <p:nvPr/>
        </p:nvSpPr>
        <p:spPr>
          <a:xfrm>
            <a:off x="330120" y="6372360"/>
            <a:ext cx="7912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* Colors for stations indicate geographic region:  blue-Western Pacific, red-Atlantic/Africa, white-Subtropics, &amp; green-Equatorial America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** See Acronyms in Appendix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  <a:ea typeface="Arial"/>
              </a:rPr>
              <a:t>*** Station formerly referred to as Alajuela / Heredia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New “Science” from SHADOZ (1): Unique Role of Tropical Sondes</a:t>
            </a:r>
            <a:endParaRPr b="0" lang="en-US" sz="3200" spc="-1" strike="noStrike">
              <a:solidFill>
                <a:srgbClr val="5b6973"/>
              </a:solidFill>
              <a:latin typeface="Cambria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20520" y="1447560"/>
            <a:ext cx="8514000" cy="52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228600">
              <a:lnSpc>
                <a:spcPct val="100000"/>
              </a:lnSpc>
              <a:spcBef>
                <a:spcPts val="550"/>
              </a:spcBef>
              <a:buClr>
                <a:srgbClr val="98c7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Pre-SHADOZ record at 5 sites invites trends analysis.  UT/LS: 1985-&gt; 2009, - 2-3%/decade (Randel &amp;Thompson, 2011)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buClr>
                <a:srgbClr val="98c7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Example (1):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New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SHADOZ studies suggest increase in UT/LS ozone trends since 2002; imply interruption in acceleration of Brewer-Dobson circulation (Gebhardt et al., ACP, 2014; **Aschmann et al., ACPD, 2014;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Arial"/>
              </a:rPr>
              <a:t>belo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4" descr="SHADOZ logo"/>
          <p:cNvPicPr/>
          <p:nvPr/>
        </p:nvPicPr>
        <p:blipFill>
          <a:blip r:embed="rId1"/>
          <a:stretch/>
        </p:blipFill>
        <p:spPr>
          <a:xfrm>
            <a:off x="7620120" y="304920"/>
            <a:ext cx="1218960" cy="9144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2" descr=""/>
          <p:cNvPicPr/>
          <p:nvPr/>
        </p:nvPicPr>
        <p:blipFill>
          <a:blip r:embed="rId2"/>
          <a:stretch/>
        </p:blipFill>
        <p:spPr>
          <a:xfrm>
            <a:off x="907920" y="3733920"/>
            <a:ext cx="704700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46240" y="151920"/>
            <a:ext cx="7619760" cy="1143000"/>
          </a:xfrm>
          <a:prstGeom prst="rect">
            <a:avLst/>
          </a:prstGeom>
          <a:noFill/>
          <a:ln w="9360">
            <a:solidFill>
              <a:srgbClr val="c5e672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New “Science” from SHADOZ (2):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Bellwether for Long-range SH Pollution</a:t>
            </a:r>
            <a:endParaRPr b="0" lang="en-US" sz="3200" spc="-1" strike="noStrike">
              <a:solidFill>
                <a:srgbClr val="5b6973"/>
              </a:solidFill>
              <a:latin typeface="Cambria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1760" y="1923840"/>
            <a:ext cx="8534520" cy="5105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228600">
              <a:lnSpc>
                <a:spcPct val="90000"/>
              </a:lnSpc>
              <a:spcBef>
                <a:spcPts val="499"/>
              </a:spcBef>
              <a:buClr>
                <a:srgbClr val="98c7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499"/>
              </a:spcBef>
              <a:buClr>
                <a:srgbClr val="98c7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499"/>
              </a:spcBef>
              <a:buClr>
                <a:srgbClr val="98c7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499"/>
              </a:spcBef>
              <a:buClr>
                <a:srgbClr val="98c7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499"/>
              </a:spcBef>
              <a:buClr>
                <a:srgbClr val="98c7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98c7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98c7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98c7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Hatched trends significant.  More than 50%/decade O</a:t>
            </a:r>
            <a:r>
              <a:rPr b="0" lang="en-US" sz="2200" spc="-1" strike="noStrike" baseline="-25000">
                <a:solidFill>
                  <a:srgbClr val="000000"/>
                </a:solidFill>
                <a:latin typeface="Calibri"/>
              </a:rPr>
              <a:t>3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increase, 8-10 km (</a:t>
            </a:r>
            <a:r>
              <a:rPr b="1" lang="en-US" sz="2200" spc="-1" strike="noStrike">
                <a:solidFill>
                  <a:srgbClr val="ff0000"/>
                </a:solidFill>
                <a:latin typeface="Calibri"/>
              </a:rPr>
              <a:t>left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winter only, not in biomass burning season (SON)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98c7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Back-trajectories (5-day, GSFC model) point to mixture of South American, African/Madagascar,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Calibri"/>
              </a:rPr>
              <a:t>and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South Asian sources (</a:t>
            </a:r>
            <a:r>
              <a:rPr b="1" lang="en-US" sz="2200" spc="-1" strike="noStrike">
                <a:solidFill>
                  <a:srgbClr val="ff0000"/>
                </a:solidFill>
                <a:latin typeface="Calibri"/>
              </a:rPr>
              <a:t>right</a:t>
            </a:r>
            <a:r>
              <a:rPr b="0" lang="en-US" sz="2200" spc="-1" strike="noStrike">
                <a:solidFill>
                  <a:srgbClr val="ff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550"/>
              </a:spcBef>
              <a:buClr>
                <a:srgbClr val="98c7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Note:  these increases not observed from space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228600">
              <a:lnSpc>
                <a:spcPct val="90000"/>
              </a:lnSpc>
              <a:spcBef>
                <a:spcPts val="451"/>
              </a:spcBef>
              <a:buClr>
                <a:srgbClr val="98c7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Source: Thompson et al., </a:t>
            </a:r>
            <a:r>
              <a:rPr b="0" i="1" lang="en-US" sz="1800" spc="-1" strike="noStrike">
                <a:solidFill>
                  <a:srgbClr val="ff0000"/>
                </a:solidFill>
                <a:latin typeface="Calibri"/>
              </a:rPr>
              <a:t>ACPD,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 SI2N Issue, 201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Picture 2" descr="C:\scratch\nvb5011\Irene_Reunion_Paper\Paper_Figures\FINAL\Figure8.png"/>
          <p:cNvPicPr/>
          <p:nvPr/>
        </p:nvPicPr>
        <p:blipFill>
          <a:blip r:embed="rId1"/>
          <a:stretch/>
        </p:blipFill>
        <p:spPr>
          <a:xfrm>
            <a:off x="-165240" y="1389240"/>
            <a:ext cx="4627800" cy="31413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4" descr=""/>
          <p:cNvPicPr/>
          <p:nvPr/>
        </p:nvPicPr>
        <p:blipFill>
          <a:blip r:embed="rId2"/>
          <a:srcRect l="15038" t="7460" r="424" b="29979"/>
          <a:stretch/>
        </p:blipFill>
        <p:spPr>
          <a:xfrm>
            <a:off x="4162320" y="1488960"/>
            <a:ext cx="4981680" cy="3041640"/>
          </a:xfrm>
          <a:prstGeom prst="rect">
            <a:avLst/>
          </a:prstGeom>
          <a:ln w="0">
            <a:noFill/>
          </a:ln>
        </p:spPr>
      </p:pic>
      <p:sp>
        <p:nvSpPr>
          <p:cNvPr id="124" name="5-Point Star 5"/>
          <p:cNvSpPr/>
          <p:nvPr/>
        </p:nvSpPr>
        <p:spPr>
          <a:xfrm>
            <a:off x="7696080" y="3235320"/>
            <a:ext cx="457200" cy="457200"/>
          </a:xfrm>
          <a:custGeom>
            <a:avLst/>
            <a:gdLst/>
            <a:ahLst/>
            <a:rect l="l" t="t" r="r" b="b"/>
            <a:pathLst>
              <a:path w="457200" h="457200">
                <a:moveTo>
                  <a:pt x="0" y="174634"/>
                </a:moveTo>
                <a:lnTo>
                  <a:pt x="174636" y="174636"/>
                </a:lnTo>
                <a:lnTo>
                  <a:pt x="228600" y="0"/>
                </a:lnTo>
                <a:lnTo>
                  <a:pt x="282564" y="174636"/>
                </a:lnTo>
                <a:lnTo>
                  <a:pt x="457200" y="174634"/>
                </a:lnTo>
                <a:lnTo>
                  <a:pt x="315916" y="282564"/>
                </a:lnTo>
                <a:lnTo>
                  <a:pt x="369882" y="457199"/>
                </a:lnTo>
                <a:lnTo>
                  <a:pt x="228600" y="349267"/>
                </a:lnTo>
                <a:lnTo>
                  <a:pt x="87318" y="457199"/>
                </a:lnTo>
                <a:lnTo>
                  <a:pt x="141284" y="282564"/>
                </a:lnTo>
                <a:lnTo>
                  <a:pt x="0" y="174634"/>
                </a:lnTo>
                <a:close/>
              </a:path>
            </a:pathLst>
          </a:custGeom>
          <a:solidFill>
            <a:srgbClr val="c00000"/>
          </a:solidFill>
          <a:ln w="2556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Box 6"/>
          <p:cNvSpPr/>
          <p:nvPr/>
        </p:nvSpPr>
        <p:spPr>
          <a:xfrm>
            <a:off x="7672320" y="3854520"/>
            <a:ext cx="1166760" cy="368280"/>
          </a:xfrm>
          <a:prstGeom prst="rect">
            <a:avLst/>
          </a:prstGeom>
          <a:noFill/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éun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ight Arrow 7"/>
          <p:cNvSpPr/>
          <p:nvPr/>
        </p:nvSpPr>
        <p:spPr>
          <a:xfrm rot="312000">
            <a:off x="5997600" y="2991960"/>
            <a:ext cx="981000" cy="484200"/>
          </a:xfrm>
          <a:prstGeom prst="rightArrow">
            <a:avLst>
              <a:gd name="adj1" fmla="val 50000"/>
              <a:gd name="adj2" fmla="val 65499"/>
            </a:avLst>
          </a:prstGeom>
          <a:solidFill>
            <a:srgbClr val="ffff00"/>
          </a:solidFill>
          <a:ln w="255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ight Arrow 8"/>
          <p:cNvSpPr/>
          <p:nvPr/>
        </p:nvSpPr>
        <p:spPr>
          <a:xfrm rot="9367200">
            <a:off x="7980480" y="2749320"/>
            <a:ext cx="977760" cy="484200"/>
          </a:xfrm>
          <a:prstGeom prst="rightArrow">
            <a:avLst>
              <a:gd name="adj1" fmla="val 50000"/>
              <a:gd name="adj2" fmla="val 49988"/>
            </a:avLst>
          </a:prstGeom>
          <a:solidFill>
            <a:srgbClr val="ffff00"/>
          </a:solidFill>
          <a:ln w="25560">
            <a:solidFill>
              <a:srgbClr val="6e92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Box 3"/>
          <p:cNvSpPr/>
          <p:nvPr/>
        </p:nvSpPr>
        <p:spPr>
          <a:xfrm>
            <a:off x="759960" y="3519360"/>
            <a:ext cx="86796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Verdana"/>
                <a:ea typeface="Arial"/>
              </a:rPr>
              <a:t>wi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4" descr="SHADOZ logo"/>
          <p:cNvPicPr/>
          <p:nvPr/>
        </p:nvPicPr>
        <p:blipFill>
          <a:blip r:embed="rId3"/>
          <a:stretch/>
        </p:blipFill>
        <p:spPr>
          <a:xfrm>
            <a:off x="7620120" y="304920"/>
            <a:ext cx="121896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Arial"/>
              </a:rPr>
              <a:t>SHADOZ Metrics, Impact, Archive - 1</a:t>
            </a:r>
            <a:endParaRPr b="0" lang="en-US" sz="3200" spc="-1" strike="noStrike">
              <a:solidFill>
                <a:srgbClr val="5b6973"/>
              </a:solidFill>
              <a:latin typeface="Cambria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20160" y="1599840"/>
            <a:ext cx="8742600" cy="4876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-228600">
              <a:lnSpc>
                <a:spcPct val="100000"/>
              </a:lnSpc>
              <a:spcBef>
                <a:spcPts val="601"/>
              </a:spcBef>
              <a:buClr>
                <a:srgbClr val="98c72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ndes in Archive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Chart 4" descr=""/>
          <p:cNvPicPr/>
          <p:nvPr/>
        </p:nvPicPr>
        <p:blipFill>
          <a:blip r:embed="rId1"/>
          <a:stretch/>
        </p:blipFill>
        <p:spPr>
          <a:xfrm>
            <a:off x="152280" y="2206800"/>
            <a:ext cx="6516720" cy="3736800"/>
          </a:xfrm>
          <a:prstGeom prst="rect">
            <a:avLst/>
          </a:prstGeom>
          <a:ln w="0">
            <a:noFill/>
          </a:ln>
        </p:spPr>
      </p:pic>
      <p:sp>
        <p:nvSpPr>
          <p:cNvPr id="133" name="TextBox 1"/>
          <p:cNvSpPr/>
          <p:nvPr/>
        </p:nvSpPr>
        <p:spPr>
          <a:xfrm>
            <a:off x="400680" y="6172200"/>
            <a:ext cx="332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*  Costa Rica, Hanoi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af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4" descr="SHADOZ logo"/>
          <p:cNvPicPr/>
          <p:nvPr/>
        </p:nvPicPr>
        <p:blipFill>
          <a:blip r:embed="rId2"/>
          <a:stretch/>
        </p:blipFill>
        <p:spPr>
          <a:xfrm>
            <a:off x="7620120" y="304920"/>
            <a:ext cx="1218960" cy="914400"/>
          </a:xfrm>
          <a:prstGeom prst="rect">
            <a:avLst/>
          </a:prstGeom>
          <a:ln w="0">
            <a:noFill/>
          </a:ln>
        </p:spPr>
      </p:pic>
      <p:sp>
        <p:nvSpPr>
          <p:cNvPr id="135" name="TextBox 1"/>
          <p:cNvSpPr/>
          <p:nvPr/>
        </p:nvSpPr>
        <p:spPr>
          <a:xfrm>
            <a:off x="6586200" y="4173480"/>
            <a:ext cx="2067480" cy="173988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GA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1999-2006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gt; 400 profiles/y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2011-2013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&lt; 300 profiles/y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29T19:06:57Z</dcterms:created>
  <dc:creator>Alaina Luzik</dc:creator>
  <dc:description/>
  <dc:language>en-US</dc:language>
  <cp:lastModifiedBy>Anne Mee Thompson</cp:lastModifiedBy>
  <dcterms:modified xsi:type="dcterms:W3CDTF">2014-05-15T07:25:36Z</dcterms:modified>
  <cp:revision>177</cp:revision>
  <dc:subject/>
  <dc:title>International Ozonesonde activiti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">
    <vt:lpwstr>Document</vt:lpwstr>
  </property>
  <property fmtid="{D5CDD505-2E9C-101B-9397-08002B2CF9AE}" pid="3" name="Document Symbol">
    <vt:lpwstr>*</vt:lpwstr>
  </property>
  <property fmtid="{D5CDD505-2E9C-101B-9397-08002B2CF9AE}" pid="4" name="Document Title">
    <vt:lpwstr>International Ozonesonde activities</vt:lpwstr>
  </property>
  <property fmtid="{D5CDD505-2E9C-101B-9397-08002B2CF9AE}" pid="5" name="Presenter's Name">
    <vt:lpwstr>Ann Thompson</vt:lpwstr>
  </property>
  <property fmtid="{D5CDD505-2E9C-101B-9397-08002B2CF9AE}" pid="6" name="display_urn:schemas-microsoft-com:office:office#Author">
    <vt:lpwstr>orm9</vt:lpwstr>
  </property>
  <property fmtid="{D5CDD505-2E9C-101B-9397-08002B2CF9AE}" pid="7" name="display_urn:schemas-microsoft-com:office:office#Editor">
    <vt:lpwstr>orm9</vt:lpwstr>
  </property>
</Properties>
</file>