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wmf" ContentType="image/x-wmf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E0F2-5DD9-49C0-BF2F-B511313F3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A77-4157-4C1A-825F-569B1EB3E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6C6-092F-48BD-8E72-C05874709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351-5EF2-4505-9553-BE19DB594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2000" cy="3430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CCE7-D623-4076-AFB1-3287DC3D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76BC-EFCC-41B0-9DEA-0269101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DE77-75F1-495B-B0BE-D51A50A2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1878-32FE-452B-8E20-B786A88C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7C88-925B-44CF-AAE2-C7F6FFA9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6B4-B7EE-47CC-B330-BC0E988D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9EB9-3CD1-4B1F-864A-9A3FA7F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A22-81B5-4A31-A634-BC9C72F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37D-B867-4CAE-96AC-4DE7F0E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7AB-0D10-4577-88DC-1F0DEC58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EAB-A0E4-4F6A-B8F5-36A4FBB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A546-718E-486A-8833-00003A4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264D-1D64-4D4A-A992-440FF14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0A5-AE96-4635-B1A0-4ACA342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F8DB-6E80-444C-9851-AC5889EC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72F-7AB5-4FC7-AD01-A02D56AB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D9C-4B44-4121-ADCC-B208C94D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597C-78D2-4111-9CA4-ACBE8FD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C995-1DA3-41AD-ACA5-245D8D4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608D-A714-4A47-BB1A-13D8FE77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601D-1D33-4BD5-8160-51ADEFCA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6BB8-30D6-40E7-9B14-7400779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947A-94E9-442C-AF9F-C4EF496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11F4-8CD3-4755-9473-A35D7EA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8DA-2EE0-4011-A80F-53112B6FCB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e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ce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0C7-F368-4A4B-8CE3-3A8ABB7E5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ne.m.thompson@nasa.g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oc.gsfc.nasa.gov/shadoz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353360" cy="16952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6973"/>
                </a:solidFill>
                <a:latin typeface="Arial"/>
                <a:ea typeface="Arial"/>
              </a:rPr>
              <a:t>SHADOZ (Southern Hemisphere Additional Ozonesondes) Status</a:t>
            </a:r>
            <a:endParaRPr b="0" lang="en-US" sz="3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7924680" cy="1752840"/>
          </a:xfrm>
          <a:prstGeom prst="rect">
            <a:avLst/>
          </a:prstGeom>
          <a:noFill/>
          <a:ln w="9360">
            <a:solidFill>
              <a:srgbClr val="cbbba1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Anne Thompson, </a:t>
            </a:r>
            <a:r>
              <a:rPr b="0" lang="en-US" sz="2000" spc="-1" strike="noStrike" u="sng">
                <a:solidFill>
                  <a:srgbClr val="26cbec"/>
                </a:solidFill>
                <a:uFillTx/>
                <a:latin typeface="Arial"/>
                <a:ea typeface="Arial"/>
                <a:hlinkClick r:id="rId1"/>
              </a:rPr>
              <a:t>anne.m.thompson@nasa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y 2014, Ozone Research Managers Mtg, Gene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Arial"/>
                <a:ea typeface="Arial"/>
              </a:rPr>
              <a:t>Archiver:  J Witte, SSAI@GSFC; http://croc.gsfc.nasa.gov/shadoz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nasa-logofullwhite"/>
          <p:cNvPicPr/>
          <p:nvPr/>
        </p:nvPicPr>
        <p:blipFill>
          <a:blip r:embed="rId2"/>
          <a:stretch/>
        </p:blipFill>
        <p:spPr>
          <a:xfrm>
            <a:off x="1666800" y="5340240"/>
            <a:ext cx="1676520" cy="129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HADOZ logo"/>
          <p:cNvPicPr/>
          <p:nvPr/>
        </p:nvPicPr>
        <p:blipFill>
          <a:blip r:embed="rId3"/>
          <a:stretch/>
        </p:blipFill>
        <p:spPr>
          <a:xfrm>
            <a:off x="82440" y="5321160"/>
            <a:ext cx="1662120" cy="124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oaalogo"/>
          <p:cNvPicPr/>
          <p:nvPr/>
        </p:nvPicPr>
        <p:blipFill>
          <a:blip r:embed="rId4"/>
          <a:stretch/>
        </p:blipFill>
        <p:spPr>
          <a:xfrm>
            <a:off x="3505320" y="54039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F:\AMT-ID-Sel-BCK-11Dec11\aZA-WORK-ID2-3Dec11\Talks-10-11\NDACCLogoNew.png"/>
          <p:cNvPicPr/>
          <p:nvPr/>
        </p:nvPicPr>
        <p:blipFill>
          <a:blip r:embed="rId5"/>
          <a:stretch/>
        </p:blipFill>
        <p:spPr>
          <a:xfrm>
            <a:off x="4968720" y="5386320"/>
            <a:ext cx="18288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ent Data Gaps:  Equipment Age, Personnel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greements, Funding</a:t>
            </a:r>
            <a:endParaRPr b="0" lang="en-US" sz="2400" spc="-1" strike="noStrike">
              <a:solidFill>
                <a:srgbClr val="5b6973"/>
              </a:solidFill>
              <a:latin typeface="Cambria"/>
            </a:endParaRPr>
          </a:p>
        </p:txBody>
      </p:sp>
      <p:pic>
        <p:nvPicPr>
          <p:cNvPr id="137" name="Picture 4" descr="SHADOZ logo"/>
          <p:cNvPicPr/>
          <p:nvPr/>
        </p:nvPicPr>
        <p:blipFill>
          <a:blip r:embed="rId1"/>
          <a:stretch/>
        </p:blipFill>
        <p:spPr>
          <a:xfrm>
            <a:off x="7772400" y="304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Chart 4" descr=""/>
          <p:cNvPicPr/>
          <p:nvPr/>
        </p:nvPicPr>
        <p:blipFill>
          <a:blip r:embed="rId2"/>
          <a:stretch/>
        </p:blipFill>
        <p:spPr>
          <a:xfrm>
            <a:off x="530280" y="1292400"/>
            <a:ext cx="732780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6420240" y="2895480"/>
            <a:ext cx="1950120" cy="91692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3; Final, &gt;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4? &gt; 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2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520" y="1599840"/>
            <a:ext cx="83613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s Impact (based on 130 artic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SHADOZ_citationmetrics.tiff"/>
          <p:cNvPicPr/>
          <p:nvPr/>
        </p:nvPicPr>
        <p:blipFill>
          <a:blip r:embed="rId1"/>
          <a:stretch/>
        </p:blipFill>
        <p:spPr>
          <a:xfrm>
            <a:off x="33480" y="2286000"/>
            <a:ext cx="8501040" cy="394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Archive Status, May 2014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160" y="1371240"/>
            <a:ext cx="85899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gaps at 5 stations have been resolved (thanks to NOAA &amp; partners, GSFC/WFF, INPE, SA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8, gaps at Fiji, San Cristobal (Galapagos, Ecuador), Irene (So. Africa)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 are operational as of 2014.  Irene since 20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cension &amp; Natal gaps started in 2010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al operational, 10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Link to SHADOZ at NDACC.  WOUDC data delivery from SHADOZ complete for 2012, partial for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-processing underway at all stations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Homogenization” by WMO/ASOPOS Recommen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AA – Station data delivered to SHADOZ 3/14:  Fiji, Samoa, Hilo. San Cristobal &amp; Costa Rica pe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way: Nairobi, Paramaribo, Réunion, Watukos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complex: Kuala Lumpur, Hanoi, Natal &amp; Asc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ticipate 2015 WMO-sonde Workshop.  JOSIE?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New Technical Issues from Radiosonde Changes </a:t>
            </a:r>
            <a:endParaRPr b="0" lang="en-US" sz="29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5400" y="1095120"/>
            <a:ext cx="949140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Background Curr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Voemel &amp; Diaz, 2009; Stuebi &amp; Levrat, 2009).  Implication for SHADOZ at certain sites.  Addressed in “homogeniz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New Radiosond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RS80-&gt; RS92-&gt;Imet). Pressure offsets!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Be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Third instrument type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PC stable, ENSCI-&gt; DMT change displays operational problems  – impact on long-term recor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BD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uffer et al., AMT, doi:10.519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mt-7-65-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E:\TTL-prep-ColU-PS\panama_pressure_offset_vs_alt_20070727.tif"/>
          <p:cNvPicPr/>
          <p:nvPr/>
        </p:nvPicPr>
        <p:blipFill>
          <a:blip r:embed="rId1"/>
          <a:srcRect l="0" t="0" r="15560" b="0"/>
          <a:stretch/>
        </p:blipFill>
        <p:spPr>
          <a:xfrm>
            <a:off x="4114800" y="2836800"/>
            <a:ext cx="2819520" cy="246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TTL-prep-ColU-PS\panama_o3pp_offset_vs_alt_20070727.tif"/>
          <p:cNvPicPr/>
          <p:nvPr/>
        </p:nvPicPr>
        <p:blipFill>
          <a:blip r:embed="rId2"/>
          <a:stretch/>
        </p:blipFill>
        <p:spPr>
          <a:xfrm>
            <a:off x="6934320" y="4370400"/>
            <a:ext cx="2396880" cy="223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5267880" y="6172200"/>
            <a:ext cx="2070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8% corre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rms5539\Application Data\SSH\temp\fig5.eps"/>
          <p:cNvPicPr/>
          <p:nvPr/>
        </p:nvPicPr>
        <p:blipFill>
          <a:blip r:embed="rId3"/>
          <a:srcRect l="6159" t="5443" r="7537" b="0"/>
          <a:stretch/>
        </p:blipFill>
        <p:spPr>
          <a:xfrm>
            <a:off x="0" y="2819520"/>
            <a:ext cx="392436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Status Summary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680" y="1447560"/>
            <a:ext cx="8274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6000 Ozone-PTU Profiles Sets at SHADOZ &amp; WOUDC Archives.  NDACC Link.  1998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are key to satellite validation and trends in troposphere &amp; lower stratospher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reliability of ozonesonde measurement is improved by JOSIE, ASOPOS and other WMO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rther enhancement through 2013-2014 “Data Homogenization”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DOZ exploring affiliation with GRUAN (new radio-sonde iss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!  “Mind the Gap!”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vent G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SHADOZ logo"/>
          <p:cNvPicPr/>
          <p:nvPr/>
        </p:nvPicPr>
        <p:blipFill>
          <a:blip r:embed="rId1"/>
          <a:stretch/>
        </p:blipFill>
        <p:spPr>
          <a:xfrm>
            <a:off x="7620120" y="11268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" y="0"/>
            <a:ext cx="8672760" cy="1371600"/>
          </a:xfrm>
          <a:prstGeom prst="rect">
            <a:avLst/>
          </a:prstGeom>
          <a:noFill/>
          <a:ln w="936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ANK YOU FOR YOUR ATTENTION!</a:t>
            </a:r>
            <a:br>
              <a:rPr sz="3200"/>
            </a:br>
            <a:r>
              <a:rPr b="1" lang="en-US" sz="3200" spc="-1" strike="noStrike">
                <a:solidFill>
                  <a:srgbClr val="5b6973"/>
                </a:solidFill>
                <a:latin typeface="Calibri"/>
              </a:rPr>
              <a:t>Acknowledgments &amp; Referenc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0360" y="1447920"/>
            <a:ext cx="899172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 from NASA, NOAA, with JOSIE and O3-DQA sponsored by W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. Aschmann et al., Hiatus in the acceleration of tropical upwelling in the 21st century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tmos. Chem. Phys. Disc.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. Gebhardt, et al., Stratospheric ozone trends and variability as seen by SCIAMACHY from 2002-2011, Atmos. Chem. Phys., 14, 831-846, 2014. doi: 10.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. G. J. Smit et al, Assessment of the performance of ECC-ozonesondes under quasi-flight conditions in the environmental simulation chamber: Insights from the Jülich Ozone Sonde Intercomparison Experiment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GR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12. D19306, doi: 10.1029/ 2006JD007308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. M. Stauffer et al.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pagation of radiosonde pressure sensor errors to ozonesonde measu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Meas. Tech., 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-79. 2014.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i:10.5194/amt-7-65-20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Hemisphere ADditional Ozonesondes (SHADOZ) 1998-2000 tropical ozone climatology.  1. Comparison with TOMS and ground-based measure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8, 8238, doi: 10.1029/ 2001JD000967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, et al., Southern Hemisphere Additional Ozonesondes (SHADOZ) 1998-2004 tropical ozone climatology.  3. Instrumentation, station variability, evaluation with simulated fligh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2, D03304, doi: 10.1029/ 2005JD007042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., Strategic ozone sounding networks: Review of design and accomplish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mos. Enviro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145-2163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SHADOZ (Southern Hemisphere Additional Ozonesondes) ozone climatology (2005-2009): Tropospheric and lower stratospheric profiles with comparisons to OMI-based ozone products,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, D23301,  doi: 10.1029/2011JD016911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Is tropospheric ozone over southern Africa really increasing?  Evidence from sonde and aircraf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Chem. Phys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.,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349"/>
              </a:spcBef>
              <a:buClr>
                <a:srgbClr val="e7ece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2354"/>
                </a:solidFill>
                <a:latin typeface="Arial Unicode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HADOZ logo"/>
          <p:cNvPicPr/>
          <p:nvPr/>
        </p:nvPicPr>
        <p:blipFill>
          <a:blip r:embed="rId1"/>
          <a:stretch/>
        </p:blipFill>
        <p:spPr>
          <a:xfrm>
            <a:off x="7467480" y="0"/>
            <a:ext cx="1447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6973"/>
                </a:solidFill>
                <a:latin typeface="Arial"/>
                <a:ea typeface="Arial"/>
              </a:rPr>
              <a:t>Outline of Presenta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94920"/>
            <a:ext cx="7848720" cy="54104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hat, Why, Where, Who of SHADOZ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elling New Science: “UT/LS,” Air 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trics, Impact, Archive Upda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ctivation of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e-processing by WMO/NDACC Sonde Guidelines. Focus on 3 variables (</a:t>
            </a:r>
            <a:r>
              <a:rPr b="0" lang="en-US" sz="2000" spc="-1" strike="noStrike">
                <a:solidFill>
                  <a:srgbClr val="648086"/>
                </a:solidFill>
                <a:latin typeface="Arial"/>
                <a:ea typeface="Arial"/>
              </a:rPr>
              <a:t>Sensing Solution Type [SST], Instrument type, Pump Correction Factor [PCF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adiosonde Variations &amp; Impact on SHAD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Current. Implication for SHADOZ at certai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adiosondes (RS80-&gt; RS92-&gt;Imet).  “Pressure Offsets”  - new ‘paper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Stauffer et al, 201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(new) instrument type.  SPC stable, ENSCI-&gt; DMT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ummar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 SHADOZ at Year 16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ential to detect UT/LS ozone-climate change; polluti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ment changes will require periodic re-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Need:  Program to avoid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6"/>
          <p:cNvSpPr/>
          <p:nvPr/>
        </p:nvSpPr>
        <p:spPr>
          <a:xfrm>
            <a:off x="609480" y="152280"/>
            <a:ext cx="8001000" cy="990720"/>
          </a:xfrm>
          <a:prstGeom prst="rect">
            <a:avLst/>
          </a:prstGeom>
          <a:noFill/>
          <a:ln w="12600">
            <a:solidFill>
              <a:srgbClr val="59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grated Earth Observing for O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15000"/>
          </a:bodyPr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     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-70200">
              <a:lnSpc>
                <a:spcPct val="90000"/>
              </a:lnSpc>
              <a:spcBef>
                <a:spcPts val="275"/>
              </a:spcBef>
              <a:buClr>
                <a:srgbClr val="5aa2ae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Predic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with ground-based (eg Dobson) instruments for total colum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file validation - partial columns (lidar, aircraft); only son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sure surface to 5-10 hPa (35 km) with 50-100 m vertical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037" descr="IGACO"/>
          <p:cNvPicPr/>
          <p:nvPr/>
        </p:nvPicPr>
        <p:blipFill>
          <a:blip r:embed="rId1"/>
          <a:stretch/>
        </p:blipFill>
        <p:spPr>
          <a:xfrm>
            <a:off x="1295280" y="1066680"/>
            <a:ext cx="6715080" cy="438624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4038480" y="1447920"/>
            <a:ext cx="1219320" cy="83808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sonde"/>
          <p:cNvPicPr/>
          <p:nvPr/>
        </p:nvPicPr>
        <p:blipFill>
          <a:blip r:embed="rId2"/>
          <a:stretch/>
        </p:blipFill>
        <p:spPr>
          <a:xfrm>
            <a:off x="138240" y="3124080"/>
            <a:ext cx="100476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1"/>
          <p:cNvGraphicFramePr/>
          <p:nvPr/>
        </p:nvGraphicFramePr>
        <p:xfrm>
          <a:off x="14400" y="1900080"/>
          <a:ext cx="1252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1900080"/>
                    <a:ext cx="125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y &amp; How: SHADOZ Initiative: Validate 1-2 Generations of Ozone Satellites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154160"/>
            <a:ext cx="8894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” ozonesonde network coordinates launches in space &amp; time for specific scientific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role of dynamics in ozone variability? Ne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2-5 launches/mon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– host supplies ground stations, launch gas,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SA/NOAA supply *some* sondes – ALL dat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@ GSF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veraging resources key to sustaining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2209680" y="3706920"/>
            <a:ext cx="4554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2844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ere, When, Who: SHADOZ Stations &amp; Data Archive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1480" y="1599840"/>
            <a:ext cx="8723160" cy="5257800"/>
          </a:xfrm>
          <a:prstGeom prst="rect">
            <a:avLst/>
          </a:prstGeom>
          <a:noFill/>
          <a:ln w="12600">
            <a:solidFill>
              <a:srgbClr val="72951a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ERE &amp; WH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re the da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51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stations operational.  15 in 2005-2009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Thompson et al, JGR, 20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6cbec"/>
                </a:solidFill>
                <a:uFillTx/>
                <a:latin typeface="Calibri"/>
                <a:hlinkClick r:id="rId1"/>
              </a:rPr>
              <a:t>http://croc.gsfc.nasa.gov/shadoz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   Annual -&gt; WOUDC, with links to NDACC, AVDC.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 2014 &gt; 6K P-T-U &amp; 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profile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O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Thompson, PI; Jacquie Witte, Archiver &amp; International Team from host countries (Cen. &amp; So. Am., Africa) &amp; sponsors (Europe, US, 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shadoz_orangemap.pdf"/>
          <p:cNvPicPr/>
          <p:nvPr/>
        </p:nvPicPr>
        <p:blipFill>
          <a:blip r:embed="rId2"/>
          <a:srcRect l="10211" t="20000" r="9664" b="32867"/>
          <a:stretch/>
        </p:blipFill>
        <p:spPr>
          <a:xfrm>
            <a:off x="990720" y="1371600"/>
            <a:ext cx="7213320" cy="3276720"/>
          </a:xfrm>
          <a:prstGeom prst="rect">
            <a:avLst/>
          </a:prstGeom>
          <a:ln w="9360">
            <a:solidFill>
              <a:srgbClr val="e7ece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394320"/>
        </p:xfrm>
        <a:graphic>
          <a:graphicData uri="http://schemas.openxmlformats.org/drawingml/2006/table">
            <a:tbl>
              <a:tblPr/>
              <a:tblGrid>
                <a:gridCol w="855720"/>
                <a:gridCol w="1073160"/>
                <a:gridCol w="2579760"/>
                <a:gridCol w="752400"/>
                <a:gridCol w="536400"/>
                <a:gridCol w="908280"/>
                <a:gridCol w="1658880"/>
                <a:gridCol w="779400"/>
              </a:tblGrid>
              <a:tr h="61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of Stu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I/Sponsor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Z 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ffiliation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data/UACO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sonde freq./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636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Validation / Tre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ta available prior to 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znorizan bt Mohamad, &amp; YY Toh, Malaysian Met., S. Yonemura, 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uko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ong Komala, LAPAN &amp; Masatomo Fujiwara, Hokkaido Uni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. 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Johnson &amp; Samuel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 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 &amp; Neusa Paes Leme, IN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, D. Hurst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O – Dobson, FTIR, O3 Lidar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J.R. Coetzee, S. African Weather Ser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un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çoise Posny, Université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Z, O3 Li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 in the FT, TTL, and 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3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ose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nie Selkirk, NASA/GSFC &amp; Holger Vömel, GRUAN Lead Ce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2 sondes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Crist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(NOAA) &amp; H. Voe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 / 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ar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us Scheele, KN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ension 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ON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columns / surface CO2, CH4, CO, C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ro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rand Calpini, MeteoSwiss &amp; John Nguyo, K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, surface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 No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Gia Hiep, AMO, S. Ogino, JAMSTEC, M. Fujiwara, Hokkaido Univ., &amp; M. Shiotani, R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2"/>
          <p:cNvSpPr/>
          <p:nvPr/>
        </p:nvSpPr>
        <p:spPr>
          <a:xfrm>
            <a:off x="330120" y="6372360"/>
            <a:ext cx="791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Colors for stations indicate geographic region:  blue-Western Pacific, red-Atlantic/Africa, white-Subtropics, &amp; green-Equatorial Amer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 See Acronyms in Append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* Station formerly referred to as Alajuela / Hered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1): Unique Role of Tropical Sond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20" y="1447560"/>
            <a:ext cx="8514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-SHADOZ record at 5 sites invites trends analysis.  UT/LS: 1985-&gt; 2009, - 2-3%/decade (Randel &amp;Thompson, 2011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ample (1)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HADOZ studies suggest increase in UT/LS ozone trends since 2002; imply interruption in acceleration of Brewer-Dobson circulation (Gebhardt et al., ACP, 2014; **Aschmann et al., ACPD, 2014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e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07920" y="3733920"/>
            <a:ext cx="7047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761976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2)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ellwether for Long-range SH Pollu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60" y="1923840"/>
            <a:ext cx="85345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tched trends significant.  More than 50%/decad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crease, 8-10 km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inter only, not in biomass burning season (SON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trajectories (5-day, GSFC model) point to mixture of South American, African/Madagascar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outh Asian sources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ight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te:  these increases not observed from spac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urce: Thompson et al.,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CPD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SI2N Issue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scratch\nvb5011\Irene_Reunion_Paper\Paper_Figures\FINAL\Figure8.png"/>
          <p:cNvPicPr/>
          <p:nvPr/>
        </p:nvPicPr>
        <p:blipFill>
          <a:blip r:embed="rId1"/>
          <a:stretch/>
        </p:blipFill>
        <p:spPr>
          <a:xfrm>
            <a:off x="-165240" y="1389240"/>
            <a:ext cx="4627800" cy="31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rcRect l="15038" t="7460" r="424" b="29979"/>
          <a:stretch/>
        </p:blipFill>
        <p:spPr>
          <a:xfrm>
            <a:off x="4162320" y="1488960"/>
            <a:ext cx="4981680" cy="3041640"/>
          </a:xfrm>
          <a:prstGeom prst="rect">
            <a:avLst/>
          </a:prstGeom>
          <a:ln w="0">
            <a:noFill/>
          </a:ln>
        </p:spPr>
      </p:pic>
      <p:sp>
        <p:nvSpPr>
          <p:cNvPr id="124" name="5-Point Star 5"/>
          <p:cNvSpPr/>
          <p:nvPr/>
        </p:nvSpPr>
        <p:spPr>
          <a:xfrm>
            <a:off x="7696080" y="32353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672320" y="3854520"/>
            <a:ext cx="11667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é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7"/>
          <p:cNvSpPr/>
          <p:nvPr/>
        </p:nvSpPr>
        <p:spPr>
          <a:xfrm rot="312000">
            <a:off x="5997600" y="2991960"/>
            <a:ext cx="981000" cy="484200"/>
          </a:xfrm>
          <a:prstGeom prst="rightArrow">
            <a:avLst>
              <a:gd name="adj1" fmla="val 50000"/>
              <a:gd name="adj2" fmla="val 65499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8"/>
          <p:cNvSpPr/>
          <p:nvPr/>
        </p:nvSpPr>
        <p:spPr>
          <a:xfrm rot="9367200">
            <a:off x="7980480" y="2749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9960" y="3519360"/>
            <a:ext cx="86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ADOZ logo"/>
          <p:cNvPicPr/>
          <p:nvPr/>
        </p:nvPicPr>
        <p:blipFill>
          <a:blip r:embed="rId3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1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160" y="1599840"/>
            <a:ext cx="8742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ndes in Archiv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hart 4" descr=""/>
          <p:cNvPicPr/>
          <p:nvPr/>
        </p:nvPicPr>
        <p:blipFill>
          <a:blip r:embed="rId1"/>
          <a:stretch/>
        </p:blipFill>
        <p:spPr>
          <a:xfrm>
            <a:off x="152280" y="2206800"/>
            <a:ext cx="6516720" cy="3736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400680" y="6172200"/>
            <a:ext cx="33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 Costa Rica, Hano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6586200" y="4173480"/>
            <a:ext cx="2067480" cy="173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9-20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 4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1-201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3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9:06:57Z</dcterms:created>
  <dc:creator>Alaina Luzik</dc:creator>
  <dc:description/>
  <dc:language>en-US</dc:language>
  <cp:lastModifiedBy>Anne Mee Thompson</cp:lastModifiedBy>
  <dcterms:modified xsi:type="dcterms:W3CDTF">2014-05-15T07:25:36Z</dcterms:modified>
  <cp:revision>177</cp:revision>
  <dc:subject/>
  <dc:title>International Ozonesonde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International Ozonesonde activities</vt:lpwstr>
  </property>
  <property fmtid="{D5CDD505-2E9C-101B-9397-08002B2CF9AE}" pid="5" name="Presenter's Name">
    <vt:lpwstr>Ann Thompson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