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3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notesMasterIdLst>
    <p:notesMasterId r:id="rId26"/>
  </p:notesMasterIdLst>
  <p:sldIdLst>
    <p:sldId id="256" r:id="rId27"/>
    <p:sldId id="257" r:id="rId28"/>
    <p:sldId id="258" r:id="rId29"/>
    <p:sldId id="259" r:id="rId30"/>
    <p:sldId id="260" r:id="rId31"/>
    <p:sldId id="261" r:id="rId32"/>
    <p:sldId id="262" r:id="rId33"/>
    <p:sldId id="263" r:id="rId34"/>
    <p:sldId id="264" r:id="rId35"/>
    <p:sldId id="265" r:id="rId36"/>
    <p:sldId id="266" r:id="rId37"/>
    <p:sldId id="267" r:id="rId38"/>
    <p:sldId id="268" r:id="rId39"/>
    <p:sldId id="269" r:id="rId40"/>
    <p:sldId id="270" r:id="rId41"/>
    <p:sldId id="271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notesMaster" Target="notesMasters/notesMaster1.xml"/><Relationship Id="rId27" Type="http://schemas.openxmlformats.org/officeDocument/2006/relationships/slide" Target="slides/slide1.xml"/><Relationship Id="rId28" Type="http://schemas.openxmlformats.org/officeDocument/2006/relationships/slide" Target="slides/slide2.xml"/><Relationship Id="rId29" Type="http://schemas.openxmlformats.org/officeDocument/2006/relationships/slide" Target="slides/slide3.xml"/><Relationship Id="rId30" Type="http://schemas.openxmlformats.org/officeDocument/2006/relationships/slide" Target="slides/slide4.xml"/><Relationship Id="rId31" Type="http://schemas.openxmlformats.org/officeDocument/2006/relationships/slide" Target="slides/slide5.xml"/><Relationship Id="rId32" Type="http://schemas.openxmlformats.org/officeDocument/2006/relationships/slide" Target="slides/slide6.xml"/><Relationship Id="rId33" Type="http://schemas.openxmlformats.org/officeDocument/2006/relationships/slide" Target="slides/slide7.xml"/><Relationship Id="rId34" Type="http://schemas.openxmlformats.org/officeDocument/2006/relationships/slide" Target="slides/slide8.xml"/><Relationship Id="rId35" Type="http://schemas.openxmlformats.org/officeDocument/2006/relationships/slide" Target="slides/slide9.xml"/><Relationship Id="rId36" Type="http://schemas.openxmlformats.org/officeDocument/2006/relationships/slide" Target="slides/slide10.xml"/><Relationship Id="rId37" Type="http://schemas.openxmlformats.org/officeDocument/2006/relationships/slide" Target="slides/slide11.xml"/><Relationship Id="rId38" Type="http://schemas.openxmlformats.org/officeDocument/2006/relationships/slide" Target="slides/slide12.xml"/><Relationship Id="rId39" Type="http://schemas.openxmlformats.org/officeDocument/2006/relationships/slide" Target="slides/slide13.xml"/><Relationship Id="rId40" Type="http://schemas.openxmlformats.org/officeDocument/2006/relationships/slide" Target="slides/slide14.xml"/><Relationship Id="rId41" Type="http://schemas.openxmlformats.org/officeDocument/2006/relationships/slide" Target="slides/slide15.xml"/><Relationship Id="rId42" Type="http://schemas.openxmlformats.org/officeDocument/2006/relationships/slide" Target="slides/slide16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9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dt" idx="7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5"/>
          <p:cNvSpPr>
            <a:spLocks noGrp="1"/>
          </p:cNvSpPr>
          <p:nvPr>
            <p:ph type="ftr" idx="7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6"/>
          <p:cNvSpPr>
            <a:spLocks noGrp="1"/>
          </p:cNvSpPr>
          <p:nvPr>
            <p:ph type="sldNum" idx="7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A98F0-3451-4EE1-AC8B-CB8BCAC3E7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ime evolution of the radiative forcing from tropospheric and stratospheric ozone from 1750 to 2010. Tropospheric ozone data are from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Stevenson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(2013) scaled to give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2010. The stratospheric ozone radiative forcing follows the functional shape of the Effective Equivalent Stratospheric Chlorine (EESC) assuming a 3-year age of air (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aniel et a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, 2010) scaled to give –0.05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–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t 2010.  (This is Figure 8.7 of the IPCC 2013 Report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Figure 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Top: Calculated spatial distribution of tropospheric ozone RF in units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averaged over 2005-2013.  Bottom:  Corresponding area-averaged TCO and RF for 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-60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o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for the Aura time period.  The RF was estimated using the mean value of 0.40 W-m</a:t>
            </a:r>
            <a:r>
              <a:rPr b="0" lang="en-US" sz="1200" spc="-1" strike="noStrike" baseline="30000">
                <a:solidFill>
                  <a:srgbClr val="000000"/>
                </a:solidFill>
                <a:latin typeface="Calibri"/>
              </a:rPr>
              <a:t>-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normalized for year 2010 from Figure 1.  Tropospheric ozone through 2013 was determined using the residual method of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Ziemke et al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[2006].  The numbers shown in the bottom panel for TCO and RF are the line fit slopes and their 2σ statistical uncertainti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Reference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iel, J., E. Fleming, R. Portmann, G. Velders, C. Jackman, and A. Ravishankara, 2010: Options to accelerate ozone recovery: Ozone and climate benefits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0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7697–770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venson, D. S., et al., Tropospheric ozone changes, radiative forcing and attribution to emissions in the Atmospheric Chemistry and Climate Model Inter-comparison Project (ACCMIP).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tmos. Chem. Phys., 1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3063–3085, 2013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iemke, J. R., S. Chandra, B. N. Duncan, et al., Tropospheric ozone determined from Aura OMI and MLS: Evaluation of measurements and comparison with the Global Modeling Initiative's Chemical Transport Model,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J. Geophys. Res., 111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, D19303, doi:10.1029/2006JD007089, 2006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C9D31-AD82-4DBE-B019-2E7F392C312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FD2A-428F-46E1-B36F-6C534016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4723-FC12-4A18-B4C6-8C2171E59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6259E7-028F-405F-B55A-C4DFCAAC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D311F9-94D4-4709-8314-2DD23127F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6CFC76-FCC8-4AB6-889D-FF0C7A985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7868A8-BA9C-4B9A-A5F2-E4346012A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A824AD-B61F-4252-B7A3-02D1973F5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4882A-8C57-4679-AA96-67DD409F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F01AC-D0DF-4F17-BBC6-E7FD89EA5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9367D1-9FC9-4275-AF48-FE41FFF9C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D238FA-10FD-4D68-BDBF-BBE760DBD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BE4877-E684-4D68-9906-24C06829A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7675-B9B0-49A5-A0D8-324F5EBD3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95F370-CF8A-4810-891C-6C667723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41A291-37CA-4804-A3D1-FB2A2096B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CE8011-EF16-4E34-900E-2675FD8E7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AA6147-EB0E-42EE-819D-1D52A58A9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197797-6D52-44B1-9299-B7C7B2B23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1AFA27-D087-4B60-AF84-4D899D40F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B53A8-87E2-450A-9154-E4C83D92C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771C07-FC01-4A68-ACEF-019D33DC0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0BF431-48EB-4752-92DC-78CBD59EF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547742-81CD-45AE-8B99-D7209898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06FD7-99F8-48F5-9D9F-705A9C39E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2E695-7AF3-4FDB-94F5-F402C201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8CDD38-7D96-4ECD-ACA3-9CF7449BC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60086-6EF3-49C7-8C11-3B32E358E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A5846-4558-4D90-B34A-A5C1B74CC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B8E5C4-EE9D-4945-8B64-A168B814F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D710E0-0238-47F3-BC36-656DDCB29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9F779C-D92D-4D60-84D5-8C7572ED4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C0C60A-AC1A-4A76-9F88-F16CA270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4E44D4-3A2D-478A-BE64-81BB2E1CB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90F64-932A-4F46-8E58-AF53068D3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4BEF8-450A-4667-946F-4D69A5F2AA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E3C7A0F-D0F5-4C70-9446-2EFCDDB19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C2BF2A-2F8A-4C0E-8685-3408341AB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C89CD0-F0F8-4E49-B91B-449ABB677A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A23F02-4DE6-4B16-8821-D690D3C92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71B428-E235-4B4F-B577-7E3C91EA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4F5D95-6430-4D9D-A2F3-29085658F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E87B24-1C5F-4EB4-B235-74269CD8C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85BE40-6B8F-4D84-B9AB-C62277F9F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A229CD-5880-4D64-B0EE-55531A0E4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06825F-1623-4B31-8510-CD086CDF4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3F9DAB-3AF9-47C9-8D02-C7D5A477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4FE043-C5A3-4AB4-844A-6020E11F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65F79E-36E6-4692-9EF6-6380F4E9A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B53653-0E2A-4F10-ACD3-FF5BE273A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F37074-6849-4EC1-B9C0-7CA6E4FD4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15185-CC18-47D5-932F-C9587DAA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0A53FA-D83F-49A0-8665-4DBE6344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8ACC99-5176-47AA-9971-13896F41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59BA3E-79C6-4DD6-A552-4FD41EF3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D796493-E9BE-4464-98A3-33D84FF77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580945-828C-42ED-8632-3B0EB6E6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8AAB0-A292-4800-BC85-06EBD914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A08E7A-A851-473F-AB6B-F4131EC27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0C2F87-43C2-49FD-AAE8-8510D2C8C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500898-8D18-4470-A8B6-D20FEBA34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71FA1F-3BF1-4298-B217-A9CBB7B7B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F2BCFBC-C8D1-4CEE-953D-2999C29F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2B91F47-6D26-48F0-81E7-4D60A5533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0DC6F2-08E1-4126-96BB-2CF84253B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E276B-112F-40E6-A48F-F5663689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49CA5B-7C4F-462F-9FA9-B8F372807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D92120-39AA-4004-A8AC-3F552BA4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E91BC-F618-4972-8046-6E8780FF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2815C8-95A4-4008-AD65-FF2DECCA0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3BFF2F-EB94-42DD-B8BD-F6DC6CAE9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8D5F13-91C0-4F72-9E25-0D6AEE952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D4B55A-919F-43C0-800F-90329B8EB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BF0A95E-DAB3-459F-AE85-C4667D4BA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A036A1-A4CC-48F2-97CD-F84D9C19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54B2AE-07E7-4D40-819B-E4984F8DB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EE0187-1696-4A41-9594-785CE91D5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9B311-40C1-4365-A37A-B33D0AFA4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E5482C-1916-4AA3-8B42-835D8E93C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ECF3B-DFA3-4486-9E9A-BDD2B0EB9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67F7C1-8355-4CAE-A2FC-9C597C9FC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171775-08F6-48CD-B712-E0B210629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4D396A-B711-4C85-8435-E8B8BD0A9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2106DA8-D9D0-410F-92EF-FDB509468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92A6C-5D78-4FAD-8446-A1EC9EF3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2C84B9B-7F3A-490F-B8DA-CE05B7AE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F21509E-D924-40B4-8B99-DDFC9F524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1ECA34A-B113-44A1-970D-C404A71A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3A1A59-6436-4EC4-990D-922C557CD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DA4AF-9BC0-4B7E-9145-69F18DFBF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F814C-0A9E-42E3-AB21-0EEAF26FD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9DE6A3-2CBE-4201-A5EC-E81A36B5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FDE986-8EBB-4595-9F44-A339F4A29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D86415-0870-48B2-BECE-B3BD2D30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370DC1-4403-4482-A10B-754BBEB94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DCB422-8646-4D60-B348-50C84EB6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30DB0B-20DD-42AD-8469-6E2B2B47B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A45FF19-CC07-4F31-BDC6-152F5EBED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AD023C-5F26-4CB7-A7D4-99A112FF0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3514FF-F8E9-4A58-8712-9B59098E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7F7EA-5AE1-45BD-9287-80386B46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9EC2C-88DF-450F-897B-BFBA74E7C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C32BE5-90AB-4D5B-8ED5-E7E54DD55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DC509-6711-4FA3-9C74-72E86C64D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B5AA8E-218E-410D-807C-A1AF6423D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16C0875-D2A0-483E-8513-817A352525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672B89E-6831-49B0-9C87-6DC097FDF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40B003B-9C49-4141-8BEF-1D1FF96D7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643AE8E-FDE5-402E-9A0F-5C2D786FD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31EF7F9-56B4-4989-ACAB-82C633C0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4DEDFA3-6E0D-43D8-8255-FCA82BB67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EAC46C-7248-4A13-AD3C-71876F0B9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953C-F99E-4F65-99C9-A3ACD934F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A6049-C669-40FF-ADF5-FF01986BA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FD5F2B2-2FD5-42EA-81C0-83A4E15B5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D1573D-275C-43EF-A47E-341863B2D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9D2E32-91C6-4D6F-817F-7893FA479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01A531-672B-4CF7-9788-353E4624A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0123F9A-EDDE-4CAD-ABBB-78C563089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4BF156-0BDC-4F61-9AA4-37851B71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048A980-DCB4-4226-9C63-D9F2DFB17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1535B7-F3D7-4B17-875F-F7EB4EB4A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A8F8EA-BFDC-484D-BA53-A9CA3BDEE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87EA2F7-53E8-46B8-AF84-211EF21C7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E04E9-83E7-4716-A302-C195151F8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73D678-7903-4C32-8DD2-70C47B5BA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08CA8DC-8296-4714-83BD-F7CD390E9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59239E-F58A-4BEA-A402-DAD9BCB5B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EA490A-0DDF-4F8E-B9F0-DD3915F7D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6CBCD9-15A9-4918-BEA9-F9DDCBFB8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E9C2598-BEC3-4728-876C-15ECC9F97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864B1D-DD47-4B9D-83C0-9E2767B2D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D79B996-F7F4-4625-82E1-E6E43F099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D3B9A0-F5A0-482E-9BAB-58AA4B3A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F931CB-5D86-48EF-AFF9-7D989A55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B7BD5-DA86-4BE5-95DB-C2A0D5AFD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2C7A632-28AD-4121-A27B-A431141B1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32698BA-A646-47B7-8F3B-3A0FD4329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7F4333-08C1-44B5-8B06-FAC10F434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E6C27F-477C-461C-B393-918BCF498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10E510A-A73A-48D6-A739-30EA8E1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C755FF-1CB9-4A71-BAA6-507A4BE85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843C22D-8B0F-4B1A-8399-6F179D531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56C5B9D-41CC-4F73-8C0A-877D21E37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191A613-1C03-4469-B275-539298571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D696427-63AC-4F11-B343-DCF10DA42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FD7C1-5352-40D6-9906-5122D0786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1BD0B9-65B3-452A-81BC-8824F4A80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249EEE6-C7B2-41F9-AF41-E19D67371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D225764-E09E-4FC4-A997-7ACED687D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9FBECF-6451-4897-943A-CDD3FD2B4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779091-32C4-45DE-B7E2-5EDE2A81A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C580B01-6220-4EE6-8BEB-397DB96AC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036609-1343-440C-BFE0-1FD70D36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3798D-1418-4FAA-A389-DC776AF27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95668D-2B25-4EF3-B15B-FFB8EE5D5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1F4ABA-A936-42B3-BFAA-D24400E97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61ABA-71DD-452D-BE97-0DBD54D68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143F8B2-8C29-42AD-BBCD-17D5341C8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B79EE3-42DF-4103-AC29-AB4BBF965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89505B-8809-4DE0-BB19-FFAD29DC4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331327-0299-4F11-B93A-352578A38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D1DD38F-6B75-4C19-8BEA-91D4491B2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440F4EE-9015-4A6A-A87B-BA5FFDE1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7367D1-E078-4F01-9F73-E3D22E81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6EB025-8B85-4075-A968-2AAF645BE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107D2-EA2C-4182-A0D4-9BE84BA49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D543770-CEAB-4123-BAB2-FE317CF7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5AE0A-0462-444F-BFE1-6C30A300C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D1ABC7F-AFCF-453F-A380-BEA246695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1A1E367-1840-4F5C-8FB7-EB76CEDBF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D6153F-F81C-4D3C-B70A-124AC788A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1D3BCB-C084-4CE0-A2EC-7EDC8119E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E88BBC5-FC4E-4DF4-8479-7A9D32C48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E3136E-F11E-480F-B288-E74FDF09A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E69F6CC-FB48-4345-9513-E5504203E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B27B76-4801-4DB2-8E3A-35770E95B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D41424-B451-4D12-B65D-AF3962B97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EF953A-1006-44CE-9A16-E5EED58A5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CE43B2-A0D5-4DD4-9799-AA32C1AD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6CF248-A7A7-415D-B81A-1F0BEBA2D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BD66919-0D69-4176-825E-0FBE1A5B6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759BFF6-4447-4248-AB9A-922255C2B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303B881-CDE8-4AA7-AE6C-A5AFD2DBD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429842-901A-45A9-BE25-CCE8BABC4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7F15EE-0F56-4DC6-9ABC-078CCFC9B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AE3BD81-CEDA-4809-A924-16303B05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F8238CC-3555-475A-9157-AADF971A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2AC7001-19EA-40DF-9D90-B3AE10D07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0E7F07-82DA-48DE-91D9-9CC338EB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328A41-ABBC-4EB5-B497-EF698B1D4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05F40A1-4BA9-4CB5-BA5B-E7719875A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5183A2-DC90-4465-B1B2-D6FA51461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B0082FA-C073-424B-9FA8-7EDCAD09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4367E98-8381-448F-B1F7-40EA85C6C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E3DA2A7-E5DB-428D-BD1D-B1D8FCB5E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592BC25-03B7-4294-92F2-26486542E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531AF2-E406-4DCC-9567-BB6855AC1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0DE63D-2DE7-40AA-922C-8D5582D149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B4E05B1-9BB2-43B3-878E-8BD04FD1B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AAA68D-CC5F-4AF4-A85D-0CF3E7078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EDDB-35AA-439A-B414-A2293F34B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D8CD4BC-6E36-4628-BC3E-66FF8F8C8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5E45885-C97D-4D01-93A6-DC72C30B3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7FB8C22-A689-4646-85FD-CE8D671E3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E9E316D-92E3-407D-B354-0A270FF5A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08FC15E-3E80-49A4-B1BD-0E8C1C3A0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4E7E1-CB45-4F3E-AF02-BB1CF462D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055BA7-8BF8-417F-B4C7-F1D45D1E8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68F6C38-8F20-48E4-9C46-4B82CDBD3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114006-D9FA-4AEB-B32F-FD8BF500E2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E5952F-ED33-4319-80C5-FFC070B08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DBAB5-9983-49FB-9C19-3B9375A6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FB482A-22E7-463B-977C-AD2104FDC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74018C-5E4C-437F-9753-68289A76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37940-0812-4BDC-A680-25FAF9BC2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FE64-ADF1-459A-B982-A7FBD38D9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AD7AA3-AE72-42EE-B028-1B28BF70A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7FB7D-A96D-4061-A3BB-21B54AC3F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7E1575-34A1-4F28-A2DD-8812FC84B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A110CD-E28F-41B5-852D-09E4029FA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69243-12F1-411C-B861-B06899A4F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7C18CC8-EBA2-4203-B46D-9341399B1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1BAD-A3D5-4B81-A518-98039282B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E30FD-1843-413B-A309-6B8683331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A03E6-58C6-4864-8D77-3EC8BF2A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D9B00F-3332-4ECF-9FF3-D14120BEA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E60D8-0A86-4546-BBE2-8B7749D20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335D63-2B5A-400A-A365-2CE60B119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8F6BBE-2E74-4526-9116-7A344A9F4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11B80-21F2-4BBD-B590-9D565204D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67BE7-5722-429E-924C-1A09F1E61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02B5D-A3DC-4D1E-9016-8F2A38879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98D581-B65D-4A73-8406-0724E93E4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B6FC-7DA4-4962-A1C1-5F5D78F22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6B7274-C925-4A4C-B45C-862CE9459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50376D-E21C-4D29-9382-450DFC5CC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48515-7CAF-41C8-976B-DE58F3BEE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C51952-EE03-4579-A518-97D2F4591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07C020-BFF2-4C75-8AF6-106E1ECBA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046FDC-31C7-4F71-A958-627A00BDB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345D94-512F-4DCC-8393-E3BF802F0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4C1BA2-0549-41D5-9545-C3B46C14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1FCEBC-EA0B-402F-BD0E-B07E8A853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2C1108-F025-4B6B-AD51-47A4F0CB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F204-7AD9-49E5-8C8B-8FDBFDE1C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F35C97-F28A-43C0-A0BF-66891B02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2DA87C-8489-4E9E-8E4A-C1E120A99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51E0F5-AE51-4638-BFAE-A0DDB5A19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E44D4-41EA-446E-AFFC-01B431A57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FDE071-7A99-48DC-8F5A-C701B607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CC6A42-1D9C-4E90-8338-3A31FD257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05E49F-2F60-4A2D-B2F0-8E41340F9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80CC60-D943-4498-9628-EDCEB521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36EF9C-4FE9-401D-89D8-B7F62A11A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C7B839-FFF3-4901-8332-8F4ED6B8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54587-83C6-48C1-9A7F-5E7450924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2773A-C7CF-4AF4-80AE-4DA33FD7B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1B5EDE-9E0F-4DCB-BBA2-4728D6369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1B1CC1-E310-4F6B-9DD5-B137280CB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640D3-B546-4E52-8164-C875E6B21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816AC-2350-47FE-BC87-06047211E1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56FE88-50C3-47FC-8C96-31C8D322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DEEEA0-06B1-4CC4-8873-9935A96A0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A4BEB5-8186-4BA4-9DF7-E814B9FCA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CB621F-F95C-4D4A-B30A-D530A4B23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D7B8-71D6-4593-B471-FB88D0E58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3EBDD-368E-44CD-B717-F783293C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15BD66-069A-4350-9838-481F463D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C3A8EF-3FE5-490B-B8CD-42BE1F37F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C813C2-9001-47F8-B5DE-32B0516C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A0D435-2791-496D-83D1-4E5737F16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E8EE8A-3BE9-4E5B-9B24-2BA005C3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F49730-853E-4571-BF7F-3EB782A03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05783-0971-491E-AF72-76014B07D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BC7DAE-6B71-49B9-81ED-C78C11321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14CB95-D81B-4664-ACC3-D356DF30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64CDD0-4B6B-40DB-9389-5C0012A5F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03AD-E0C7-4171-8159-D1E801759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685800" y="30492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A67C2-85C2-43B4-8927-60A06AF50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330A77-92C3-441C-BB1C-6AC66048D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E24580-D7FE-4EEC-BDF8-60BD1EBE2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EA42EB-98F5-4C8D-9032-70FDA3B2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6F6C97-F3CB-425C-823F-18CDF8621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0D8195-FC14-4BD4-A2D2-29F1292CF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1860F-AB82-4EE7-AA10-E74BF762C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5870A7-41C4-406A-84FE-73A622585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E19A59-7F43-4CBA-8BFE-8B2E28AC4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4045D7-3A11-4E66-8BB1-E1ED550D2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9AE18-E5B7-4B48-BADD-D39484F7E6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CDC81-9D26-4E41-B4D1-C5D823843A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792B2-6CCD-4B00-9FFD-A74C43CB46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633A4-C033-482A-97E4-ABF58FE374A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B824-9950-4085-9CEA-B8A8A8F27C6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D011C-293D-47DA-95B1-A462EA7883FD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590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788B2-4E68-4CA7-BC9F-7E3649D8342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18E3D-0DBD-481A-87E9-D34D4295BBE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3F413-6B05-48B9-BA15-3BBAA4C01CD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E9A98-E3E2-48FC-9F49-F6F02D06C0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43D1A-5A00-4B8E-BB99-9A38ECDA640C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ADB59-FD35-4DF4-9639-49C8545653C9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795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195AF-8F61-4320-BFDD-38B5BFC8263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C4343-623B-4F37-AEDB-D8D2FBEAF07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0BE67-FA52-43FB-A715-E557662FEB8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7F45E-25A4-457A-8E15-EAE2C324197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8B901-9C47-4C71-AAF1-6E12D559810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8B635-22EC-4CC0-9A78-11F7B65C22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AB593-9DFD-4DE2-9497-B226D6280F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2427-87DA-4108-989D-9509CA6CE83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ABA2-0215-491E-9EC9-4543E7A4F4F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3BFF7-83C6-42AF-AC58-FAAA45C764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0E95-83D5-48E1-884D-FC846DCF88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Picture 8" descr="_x0014_Goddard w_rocket.gif                                           000010DF_x0008_STAAC #1                       B0D01979:"/>
          <p:cNvPicPr/>
          <p:nvPr/>
        </p:nvPicPr>
        <p:blipFill>
          <a:blip r:embed="rId2"/>
          <a:stretch/>
        </p:blipFill>
        <p:spPr>
          <a:xfrm>
            <a:off x="8696160" y="6186600"/>
            <a:ext cx="447840" cy="6714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955F-ECA6-4E22-B9CD-5359CED2432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3" name="Picture 4" descr="_x001b_hi_res_ozone_2002_09_24.jpg                                    00000013_x000c_Macintosh HD                   985CFB00:"/>
          <p:cNvPicPr/>
          <p:nvPr/>
        </p:nvPicPr>
        <p:blipFill>
          <a:blip r:embed="rId1"/>
          <a:stretch/>
        </p:blipFill>
        <p:spPr>
          <a:xfrm>
            <a:off x="838080" y="685800"/>
            <a:ext cx="7391520" cy="5495760"/>
          </a:xfrm>
          <a:prstGeom prst="rect">
            <a:avLst/>
          </a:prstGeom>
          <a:ln w="0">
            <a:noFill/>
          </a:ln>
        </p:spPr>
      </p:pic>
      <p:sp>
        <p:nvSpPr>
          <p:cNvPr id="1004" name="PlaceHolder 1"/>
          <p:cNvSpPr>
            <a:spLocks noGrp="1"/>
          </p:cNvSpPr>
          <p:nvPr>
            <p:ph type="subTitle"/>
          </p:nvPr>
        </p:nvSpPr>
        <p:spPr>
          <a:xfrm>
            <a:off x="1295280" y="37335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Pawan K. Bharti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NASA Goddard Space Flight Cent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Greenbelt, Maryland, U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title"/>
          </p:nvPr>
        </p:nvSpPr>
        <p:spPr>
          <a:xfrm>
            <a:off x="304560" y="685440"/>
            <a:ext cx="83818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Lessons Learned in Creating Long-term Ozone Datasets </a:t>
            </a:r>
            <a:br>
              <a:rPr sz="3200"/>
            </a:b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Recommendations for the Future 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0010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Planned Instruments with BUV capability</a:t>
            </a:r>
            <a:r>
              <a:rPr b="0" i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5" name=""/>
          <p:cNvSpPr txBox="1"/>
          <p:nvPr/>
        </p:nvSpPr>
        <p:spPr>
          <a:xfrm>
            <a:off x="68580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ep Space Climate Observatory (DSCVR): Launch early 201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cated at 1</a:t>
            </a:r>
            <a:r>
              <a:rPr b="0" lang="en-US" sz="2400" spc="-1" strike="noStrike" baseline="30000">
                <a:solidFill>
                  <a:srgbClr val="ffffff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Lagrange Point (1.5 million km from Earth along the sun-earth line) to provide hourly global coverage- useful for erythemal UV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ntinel 5P/TropOMI (~201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MI-like products with 7 km horizontal resolu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ostationary Instruments (2018-202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EMPO (US), GEMS (S. Korea), Sentinel 4 ( ESA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ole of Ground-based O</a:t>
            </a:r>
            <a:r>
              <a:rPr b="0" lang="en-US" sz="32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Network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in Creating Satellite Record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tion of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Climat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ean, covariance, diurnal vari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id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detect systematic errors in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pl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dependently verify scientific conclusions derived from satellite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Homogeniz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 inter-calibrate satellite data across gap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Profile Shape Error in TOMS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59" name="Picture 3" descr="Screen Shot 2014-05-09 at 4.49.44 PM.png"/>
          <p:cNvPicPr/>
          <p:nvPr/>
        </p:nvPicPr>
        <p:blipFill>
          <a:blip r:embed="rId1"/>
          <a:stretch/>
        </p:blipFill>
        <p:spPr>
          <a:xfrm>
            <a:off x="1219320" y="1143000"/>
            <a:ext cx="6858000" cy="4968720"/>
          </a:xfrm>
          <a:prstGeom prst="rect">
            <a:avLst/>
          </a:prstGeom>
          <a:ln w="0">
            <a:noFill/>
          </a:ln>
        </p:spPr>
      </p:pic>
      <p:sp>
        <p:nvSpPr>
          <p:cNvPr id="1060" name="TextBox 4"/>
          <p:cNvSpPr/>
          <p:nvPr/>
        </p:nvSpPr>
        <p:spPr>
          <a:xfrm>
            <a:off x="2904840" y="1447920"/>
            <a:ext cx="29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dir View, March (sza≈lat)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1" name="Straight Arrow Connector 8"/>
          <p:cNvCxnSpPr/>
          <p:nvPr/>
        </p:nvCxnSpPr>
        <p:spPr>
          <a:xfrm flipV="1">
            <a:off x="7314840" y="1980720"/>
            <a:ext cx="229320" cy="15336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2" name="TextBox 9"/>
          <p:cNvSpPr/>
          <p:nvPr/>
        </p:nvSpPr>
        <p:spPr>
          <a:xfrm>
            <a:off x="6555960" y="20574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8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63" name="TextBox 10"/>
          <p:cNvSpPr/>
          <p:nvPr/>
        </p:nvSpPr>
        <p:spPr>
          <a:xfrm>
            <a:off x="6555960" y="4114800"/>
            <a:ext cx="76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75˚ sz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64" name="Straight Arrow Connector 12"/>
          <p:cNvCxnSpPr/>
          <p:nvPr/>
        </p:nvCxnSpPr>
        <p:spPr>
          <a:xfrm>
            <a:off x="7086240" y="4419360"/>
            <a:ext cx="229320" cy="15300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65" name="TextBox 14"/>
          <p:cNvSpPr/>
          <p:nvPr/>
        </p:nvSpPr>
        <p:spPr>
          <a:xfrm>
            <a:off x="1093680" y="6172200"/>
            <a:ext cx="7216920" cy="3988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imated using ozonesonde climatology (mean &amp; covariance)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iurnal Variation of Ozone (MLO MWR)</a:t>
            </a: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7" name="Picture 3" descr="Screen Shot 2014-05-09 at 5.02.04 PM.png"/>
          <p:cNvPicPr/>
          <p:nvPr/>
        </p:nvPicPr>
        <p:blipFill>
          <a:blip r:embed="rId1"/>
          <a:stretch/>
        </p:blipFill>
        <p:spPr>
          <a:xfrm>
            <a:off x="380880" y="609480"/>
            <a:ext cx="8153640" cy="611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alidation &amp; Data Homogenization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69" name="Picture 3" descr="TS_orig+seasanom_gsbuv_microwave_mapr_Mauna Loalay6.png"/>
          <p:cNvPicPr/>
          <p:nvPr/>
        </p:nvPicPr>
        <p:blipFill>
          <a:blip r:embed="rId1"/>
          <a:stretch/>
        </p:blipFill>
        <p:spPr>
          <a:xfrm>
            <a:off x="533520" y="762120"/>
            <a:ext cx="7238880" cy="5790960"/>
          </a:xfrm>
          <a:prstGeom prst="rect">
            <a:avLst/>
          </a:prstGeom>
          <a:ln w="0">
            <a:noFill/>
          </a:ln>
        </p:spPr>
      </p:pic>
      <p:sp>
        <p:nvSpPr>
          <p:cNvPr id="1070" name="TextBox 4"/>
          <p:cNvSpPr/>
          <p:nvPr/>
        </p:nvSpPr>
        <p:spPr>
          <a:xfrm>
            <a:off x="6564600" y="3352680"/>
            <a:ext cx="216792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lack line: MLO MW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71" name="TextBox 5"/>
          <p:cNvSpPr/>
          <p:nvPr/>
        </p:nvSpPr>
        <p:spPr>
          <a:xfrm>
            <a:off x="13320" y="3352680"/>
            <a:ext cx="2262600" cy="3373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UV/2 Instruments -&gt;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Recommendations for the Futur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zonesonde network remains critical for climatology, validation, replication and homogenization of satellite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ata below 20 km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uble Brewers with enhanced algorithm can play greater role in validating satellite dat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UV-type profile  algorithm can provide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up to 88˚ SZA, and profiles better than Umkehr in only minut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CD UV spectrometers should be considered for replacement of the aging Dobson networ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provide Dbl Brewer-quality total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and stratospheric ozone profile and possibly tropospheric O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profi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ome Strategic Issues to Consider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75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iven the unquestioned importance of ozonesondes for research of processes in UTLS region, how can we best maintain and enhance the network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o we need a 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monitoring network that can independently verify satellite trend estimates, given that satellite programs are reasonably healthy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ow to improve the quality/coverage of ground-based data in the upper strat. Satellite monitoring of this region is not fully assure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atellite Ozone Instruments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7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Back-scatter UV (BUV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dir Thermal IR (TIR)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-viewing Instrumen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ccultation (solar, lunar, stellar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T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imb Emiss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TIR, Microwave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9900"/>
                </a:solidFill>
                <a:latin typeface="Arial"/>
              </a:rPr>
              <a:t>Limb Scattering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UV, VIS, SWI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8" name="Picture 4" descr="Screen Shot 2014-05-09 at 2.56.00 PM.png"/>
          <p:cNvPicPr/>
          <p:nvPr/>
        </p:nvPicPr>
        <p:blipFill>
          <a:blip r:embed="rId1"/>
          <a:stretch/>
        </p:blipFill>
        <p:spPr>
          <a:xfrm>
            <a:off x="152280" y="380880"/>
            <a:ext cx="8823600" cy="590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9" name="Picture 1" descr="Screen Shot 2014-05-09 at 2.58.34 PM.png"/>
          <p:cNvPicPr/>
          <p:nvPr/>
        </p:nvPicPr>
        <p:blipFill>
          <a:blip r:embed="rId1"/>
          <a:stretch/>
        </p:blipFill>
        <p:spPr>
          <a:xfrm>
            <a:off x="228600" y="380880"/>
            <a:ext cx="8702640" cy="5924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Comparison of Satellite Total O</a:t>
            </a:r>
            <a:r>
              <a:rPr b="0" lang="en-US" sz="3200" spc="-1" strike="noStrike" baseline="-25000">
                <a:solidFill>
                  <a:srgbClr val="0000ff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Record (30S-3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11" name="Picture 2" descr="Screen Shot 2014-05-09 at 3.06.38 PM.png"/>
          <p:cNvPicPr/>
          <p:nvPr/>
        </p:nvPicPr>
        <p:blipFill>
          <a:blip r:embed="rId1"/>
          <a:stretch/>
        </p:blipFill>
        <p:spPr>
          <a:xfrm>
            <a:off x="152280" y="1676520"/>
            <a:ext cx="8839440" cy="2001600"/>
          </a:xfrm>
          <a:prstGeom prst="rect">
            <a:avLst/>
          </a:prstGeom>
          <a:ln w="0">
            <a:noFill/>
          </a:ln>
        </p:spPr>
      </p:pic>
      <p:cxnSp>
        <p:nvCxnSpPr>
          <p:cNvPr id="1012" name="Straight Arrow Connector 4"/>
          <p:cNvCxnSpPr/>
          <p:nvPr/>
        </p:nvCxnSpPr>
        <p:spPr>
          <a:xfrm flipV="1">
            <a:off x="5334120" y="3200400"/>
            <a:ext cx="30528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3" name="TextBox 5"/>
          <p:cNvSpPr/>
          <p:nvPr/>
        </p:nvSpPr>
        <p:spPr>
          <a:xfrm>
            <a:off x="4808520" y="3124080"/>
            <a:ext cx="51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4" name="Straight Arrow Connector 7"/>
          <p:cNvCxnSpPr/>
          <p:nvPr/>
        </p:nvCxnSpPr>
        <p:spPr>
          <a:xfrm>
            <a:off x="7391160" y="1904760"/>
            <a:ext cx="229320" cy="7668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5" name="TextBox 8"/>
          <p:cNvSpPr/>
          <p:nvPr/>
        </p:nvSpPr>
        <p:spPr>
          <a:xfrm>
            <a:off x="6175080" y="1676520"/>
            <a:ext cx="119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16" name="Straight Arrow Connector 10"/>
          <p:cNvCxnSpPr/>
          <p:nvPr/>
        </p:nvCxnSpPr>
        <p:spPr>
          <a:xfrm flipH="1" flipV="1">
            <a:off x="1370880" y="289476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17" name="TextBox 11"/>
          <p:cNvSpPr/>
          <p:nvPr/>
        </p:nvSpPr>
        <p:spPr>
          <a:xfrm>
            <a:off x="1380960" y="3124080"/>
            <a:ext cx="66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pic>
        <p:nvPicPr>
          <p:cNvPr id="1018" name="Picture 12" descr="Screen Shot 2014-05-09 at 3.13.53 PM.png"/>
          <p:cNvPicPr/>
          <p:nvPr/>
        </p:nvPicPr>
        <p:blipFill>
          <a:blip r:embed="rId2"/>
          <a:stretch/>
        </p:blipFill>
        <p:spPr>
          <a:xfrm>
            <a:off x="330120" y="4114800"/>
            <a:ext cx="8661600" cy="1959120"/>
          </a:xfrm>
          <a:prstGeom prst="rect">
            <a:avLst/>
          </a:prstGeom>
          <a:ln w="0">
            <a:noFill/>
          </a:ln>
        </p:spPr>
      </p:pic>
      <p:sp>
        <p:nvSpPr>
          <p:cNvPr id="1019" name="Straight Connector 14"/>
          <p:cNvSpPr/>
          <p:nvPr/>
        </p:nvSpPr>
        <p:spPr>
          <a:xfrm>
            <a:off x="981000" y="5011560"/>
            <a:ext cx="7772400" cy="0"/>
          </a:xfrm>
          <a:prstGeom prst="line">
            <a:avLst/>
          </a:prstGeom>
          <a:ln w="0">
            <a:solidFill>
              <a:srgbClr val="2a1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0" name="Rectangle 15"/>
          <p:cNvSpPr/>
          <p:nvPr/>
        </p:nvSpPr>
        <p:spPr>
          <a:xfrm>
            <a:off x="990720" y="4876920"/>
            <a:ext cx="784836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1" name="Straight Arrow Connector 17"/>
          <p:cNvCxnSpPr/>
          <p:nvPr/>
        </p:nvCxnSpPr>
        <p:spPr>
          <a:xfrm flipV="1">
            <a:off x="2361960" y="510480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2" name="TextBox 19"/>
          <p:cNvSpPr/>
          <p:nvPr/>
        </p:nvSpPr>
        <p:spPr>
          <a:xfrm>
            <a:off x="1689840" y="533412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3" name="TextBox 20"/>
          <p:cNvSpPr/>
          <p:nvPr/>
        </p:nvSpPr>
        <p:spPr>
          <a:xfrm>
            <a:off x="5725440" y="541008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24" name="Straight Arrow Connector 22"/>
          <p:cNvCxnSpPr/>
          <p:nvPr/>
        </p:nvCxnSpPr>
        <p:spPr>
          <a:xfrm flipV="1">
            <a:off x="6781680" y="5257080"/>
            <a:ext cx="15336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25" name="TextBox 24"/>
          <p:cNvSpPr/>
          <p:nvPr/>
        </p:nvSpPr>
        <p:spPr>
          <a:xfrm>
            <a:off x="2010960" y="6400800"/>
            <a:ext cx="5447520" cy="33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/SBUV Differences are due to use of different O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bs x-section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High Latitude Comparison (55N-60N)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1027" name="Picture 2" descr="Screen Shot 2014-05-09 at 3.28.07 PM.png"/>
          <p:cNvPicPr/>
          <p:nvPr/>
        </p:nvPicPr>
        <p:blipFill>
          <a:blip r:embed="rId1"/>
          <a:stretch/>
        </p:blipFill>
        <p:spPr>
          <a:xfrm>
            <a:off x="79200" y="1905120"/>
            <a:ext cx="8759880" cy="1981080"/>
          </a:xfrm>
          <a:prstGeom prst="rect">
            <a:avLst/>
          </a:prstGeom>
          <a:ln w="0">
            <a:noFill/>
          </a:ln>
        </p:spPr>
      </p:pic>
      <p:sp>
        <p:nvSpPr>
          <p:cNvPr id="1028" name="Rectangle 5"/>
          <p:cNvSpPr/>
          <p:nvPr/>
        </p:nvSpPr>
        <p:spPr>
          <a:xfrm>
            <a:off x="762120" y="2666880"/>
            <a:ext cx="7924680" cy="228600"/>
          </a:xfrm>
          <a:prstGeom prst="rect">
            <a:avLst/>
          </a:prstGeom>
          <a:solidFill>
            <a:srgbClr val="d9d9d9">
              <a:alpha val="37000"/>
            </a:srgbClr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29" name="Straight Connector 7"/>
          <p:cNvSpPr/>
          <p:nvPr/>
        </p:nvSpPr>
        <p:spPr>
          <a:xfrm>
            <a:off x="762120" y="2808360"/>
            <a:ext cx="7924680" cy="0"/>
          </a:xfrm>
          <a:prstGeom prst="line">
            <a:avLst/>
          </a:prstGeom>
          <a:ln w="324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0" name="Straight Arrow Connector 8"/>
          <p:cNvCxnSpPr/>
          <p:nvPr/>
        </p:nvCxnSpPr>
        <p:spPr>
          <a:xfrm flipV="1">
            <a:off x="1904760" y="2971080"/>
            <a:ext cx="22932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1" name="TextBox 9"/>
          <p:cNvSpPr/>
          <p:nvPr/>
        </p:nvSpPr>
        <p:spPr>
          <a:xfrm>
            <a:off x="1232640" y="3200400"/>
            <a:ext cx="173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ME/SCIA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2" name="TextBox 10"/>
          <p:cNvSpPr/>
          <p:nvPr/>
        </p:nvSpPr>
        <p:spPr>
          <a:xfrm>
            <a:off x="5877720" y="3200400"/>
            <a:ext cx="106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MI-SBUV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33" name="Straight Arrow Connector 11"/>
          <p:cNvCxnSpPr/>
          <p:nvPr/>
        </p:nvCxnSpPr>
        <p:spPr>
          <a:xfrm flipV="1">
            <a:off x="6933960" y="3047400"/>
            <a:ext cx="153000" cy="229320"/>
          </a:xfrm>
          <a:prstGeom prst="straightConnector1">
            <a:avLst/>
          </a:prstGeom>
          <a:ln w="25560">
            <a:solidFill>
              <a:srgbClr val="ff9900"/>
            </a:solidFill>
            <a:miter/>
            <a:tailEnd len="med" type="arrow" w="med"/>
          </a:ln>
        </p:spPr>
      </p:cxnSp>
      <p:sp>
        <p:nvSpPr>
          <p:cNvPr id="1034" name="TextBox 12"/>
          <p:cNvSpPr/>
          <p:nvPr/>
        </p:nvSpPr>
        <p:spPr>
          <a:xfrm>
            <a:off x="152280" y="4419720"/>
            <a:ext cx="8915400" cy="10504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y Conclusion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Quality of total O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record from satellite BUV sensors is becoming comparable of that from best quality ground station </a:t>
            </a:r>
            <a:endParaRPr b="0" lang="en-US" sz="2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685800" y="44280"/>
            <a:ext cx="777240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arison of Tropospheric Column Ozone Derived by Combining MLS and OM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037" name="Picture 3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7813800" cy="4800600"/>
          </a:xfrm>
          <a:prstGeom prst="rect">
            <a:avLst/>
          </a:prstGeom>
          <a:ln w="0">
            <a:noFill/>
          </a:ln>
        </p:spPr>
      </p:pic>
      <p:sp>
        <p:nvSpPr>
          <p:cNvPr id="1038" name="TextBox 4"/>
          <p:cNvSpPr/>
          <p:nvPr/>
        </p:nvSpPr>
        <p:spPr>
          <a:xfrm>
            <a:off x="3211200" y="990720"/>
            <a:ext cx="229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Arial"/>
              </a:rPr>
              <a:t>2005-2012 JJA average</a:t>
            </a:r>
            <a:endParaRPr b="0" lang="en-US" sz="18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39" name="TextBox 1"/>
          <p:cNvSpPr/>
          <p:nvPr/>
        </p:nvSpPr>
        <p:spPr>
          <a:xfrm>
            <a:off x="1371600" y="156852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ata Assimilation 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0" name="TextBox 6"/>
          <p:cNvSpPr/>
          <p:nvPr/>
        </p:nvSpPr>
        <p:spPr>
          <a:xfrm>
            <a:off x="5181480" y="1576440"/>
            <a:ext cx="2514600" cy="30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Trajectory Method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1" name="TextBox 8"/>
          <p:cNvSpPr/>
          <p:nvPr/>
        </p:nvSpPr>
        <p:spPr>
          <a:xfrm>
            <a:off x="1533600" y="3733920"/>
            <a:ext cx="236196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Direct retrieval- no MLS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2" name="TextBox 9"/>
          <p:cNvSpPr/>
          <p:nvPr/>
        </p:nvSpPr>
        <p:spPr>
          <a:xfrm>
            <a:off x="5257800" y="3733920"/>
            <a:ext cx="2362320" cy="2462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Model</a:t>
            </a:r>
            <a:endParaRPr b="0" lang="en-US" sz="10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hat is the Radiative Forcing Contribution from Tropospheric Ozon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4" name="Picture 2" descr="npp24"/>
          <p:cNvPicPr/>
          <p:nvPr/>
        </p:nvPicPr>
        <p:blipFill>
          <a:blip r:embed="rId1"/>
          <a:stretch/>
        </p:blipFill>
        <p:spPr>
          <a:xfrm>
            <a:off x="304920" y="1066680"/>
            <a:ext cx="2895480" cy="251460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3" descr="npp25"/>
          <p:cNvPicPr/>
          <p:nvPr/>
        </p:nvPicPr>
        <p:blipFill>
          <a:blip r:embed="rId2"/>
          <a:stretch/>
        </p:blipFill>
        <p:spPr>
          <a:xfrm>
            <a:off x="3352680" y="2590920"/>
            <a:ext cx="5562720" cy="3819240"/>
          </a:xfrm>
          <a:prstGeom prst="rect">
            <a:avLst/>
          </a:prstGeom>
          <a:ln w="0">
            <a:noFill/>
          </a:ln>
        </p:spPr>
      </p:pic>
      <p:sp>
        <p:nvSpPr>
          <p:cNvPr id="1046" name="TextBox 5"/>
          <p:cNvSpPr/>
          <p:nvPr/>
        </p:nvSpPr>
        <p:spPr>
          <a:xfrm>
            <a:off x="3733920" y="1208160"/>
            <a:ext cx="49528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Although the amount of ozone in the stratosphere is 10 times more than tropospheric ozone, global </a:t>
            </a:r>
            <a:r>
              <a:rPr b="0" lang="en-US" sz="1600" spc="-1" strike="noStrike" u="sng">
                <a:solidFill>
                  <a:srgbClr val="000000"/>
                </a:solidFill>
                <a:uFillTx/>
                <a:latin typeface="Calibri"/>
                <a:ea typeface="Arial"/>
              </a:rPr>
              <a:t>radiative forcing from tropospheric ozone is much larger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than from stratospheric ozone 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(IPCC 2013 Report)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sp>
        <p:nvSpPr>
          <p:cNvPr id="1047" name="TextBox 6"/>
          <p:cNvSpPr/>
          <p:nvPr/>
        </p:nvSpPr>
        <p:spPr>
          <a:xfrm>
            <a:off x="394920" y="3863880"/>
            <a:ext cx="282636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adiative forcing from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tropospheric ozone has clear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regional pattern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Global increases in tropospheric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zone and radiative forcing are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now detected from Aura 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OMI/MLS ozone measurements</a:t>
            </a:r>
            <a:endParaRPr b="0" lang="en-US" sz="1600" spc="-1" strike="noStrike">
              <a:solidFill>
                <a:srgbClr val="ffffff"/>
              </a:solidFill>
              <a:latin typeface="Symbol"/>
            </a:endParaRPr>
          </a:p>
        </p:txBody>
      </p:sp>
      <p:cxnSp>
        <p:nvCxnSpPr>
          <p:cNvPr id="1048" name="Straight Arrow Connector 10"/>
          <p:cNvCxnSpPr/>
          <p:nvPr/>
        </p:nvCxnSpPr>
        <p:spPr>
          <a:xfrm flipV="1">
            <a:off x="2742840" y="3885480"/>
            <a:ext cx="610200" cy="15300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9" name="Straight Arrow Connector 14"/>
          <p:cNvCxnSpPr/>
          <p:nvPr/>
        </p:nvCxnSpPr>
        <p:spPr>
          <a:xfrm flipV="1">
            <a:off x="2819160" y="5638320"/>
            <a:ext cx="610200" cy="15336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50" name="Straight Arrow Connector 15"/>
          <p:cNvCxnSpPr/>
          <p:nvPr/>
        </p:nvCxnSpPr>
        <p:spPr>
          <a:xfrm flipH="1">
            <a:off x="3123720" y="1676160"/>
            <a:ext cx="534240" cy="766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1" name="TextBox 18"/>
          <p:cNvSpPr/>
          <p:nvPr/>
        </p:nvSpPr>
        <p:spPr>
          <a:xfrm>
            <a:off x="2499120" y="6550200"/>
            <a:ext cx="42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(J. Ziemke, P. Newman, J. Joiner, M. Olsen, P. K. Bhartia)</a:t>
            </a:r>
            <a:endParaRPr b="0" lang="en-US" sz="1400" spc="-1" strike="noStrike">
              <a:solidFill>
                <a:srgbClr val="ffffff"/>
              </a:solidFill>
              <a:latin typeface="Symbo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Assessment of Satellite Performance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3" name=""/>
          <p:cNvSpPr txBox="1"/>
          <p:nvPr/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otal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Quality of data from BUV instruments is now roughly comparable to that from Double Brewer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imb/occultation instruments provide high quality data above 20 km in tropics, 15 km elsewher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rop O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Profi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ood quality trop O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column, but profile information is limite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19:18:23Z</dcterms:created>
  <dc:creator>RCebula</dc:creator>
  <dc:description/>
  <dc:language>en-US</dc:language>
  <cp:lastModifiedBy>Pawan Bhartia</cp:lastModifiedBy>
  <dcterms:modified xsi:type="dcterms:W3CDTF">2014-05-14T09:58:45Z</dcterms:modified>
  <cp:revision>348</cp:revision>
  <dc:subject/>
  <dc:title>Lessons learned in creating long-term ozone datasets: Recommendations for the futu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*</vt:lpwstr>
  </property>
  <property fmtid="{D5CDD505-2E9C-101B-9397-08002B2CF9AE}" pid="4" name="Document Title">
    <vt:lpwstr>Lessons learned in creating long-term ozone datasets: Recommendations for the future</vt:lpwstr>
  </property>
  <property fmtid="{D5CDD505-2E9C-101B-9397-08002B2CF9AE}" pid="5" name="Presenter's Name">
    <vt:lpwstr>P.K. Bhartia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