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dt" idx="7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ftr" idx="7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 type="sldNum" idx="7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1DAB-812F-42E9-A4C5-AE7DD3DEA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gure 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Time evolution of the radiative forcing from tropospheric and stratospheric ozone from 1750 to 2010. Tropospheric ozone data are from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tevenson et al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2013) scaled to give 0.40 W-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–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010. The stratospheric ozone radiative forcing follows the functional shape of the Effective Equivalent Stratospheric Chlorine (EESC) assuming a 3-year age of air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aniel et 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, 2010) scaled to give –0.05 W-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–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 2010.  (This is Figure 8.7 of the IPCC 2013 Repor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gure 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Top: Calculated spatial distribution of tropospheric ozone RF in units W-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veraged over 2005-2013.  Bottom:  Corresponding area-averaged TCO and RF for 6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-6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for the Aura time period.  The RF was estimated using the mean value of 0.40 W-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normalized for year 2010 from Figure 1.  Tropospheric ozone through 2013 was determined using the residual method o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iemke et al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[2006].  The numbers shown in the bottom panel for TCO and RF are the line fit slopes and their 2σ statistical uncertain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fere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iel, J., E. Fleming, R. Portmann, G. Velders, C. Jackman, and A. Ravishankara, 2010: Options to accelerate ozone recovery: Ozone and climate benefits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tmos. Chem. Phys., 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7697–77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venson, D. S., et al., Tropospheric ozone changes, radiative forcing and attribution to emissions in the Atmospheric Chemistry and Climate Model Inter-comparison Project (ACCMIP)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tmos. Chem. Phys., 1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3063–3085, 20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iemke, J. R., S. Chandra, B. N. Duncan, et al., Tropospheric ozone determined from Aura OMI and MLS: Evaluation of measurements and comparison with the Global Modeling Initiative's Chemical Transport Model,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. Geophys. Res., 11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D19303, doi:10.1029/2006JD007089,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A500-6BE7-4BCB-B998-9E4B8CD778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8F6D-A550-4E5B-A848-8CD31DF2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44F-9AE8-42E1-8AF6-8EE96AEC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C94E9-C39F-4AF4-87FC-A66AE92C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9C77F-C7BC-49FD-895C-962D6F65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4CBAF-447F-4F44-BF61-31A39369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875C0-BAB1-4D61-9A83-9AEE66CB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B21EC-03EB-431C-8F30-5CF3885E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D27AD-E100-4863-A90B-F173A451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61B48-257A-41C1-93A9-095544C8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69885-5C99-4B08-AEBC-6E277F1F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7EC53-8D7F-4577-A7B0-0BFA926C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5470E-DA21-473F-B337-DF810E07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796-20C2-4F36-A92D-DCEF20A6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0CA1A-7535-4BB6-A373-8DF6AB03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02D9A-F281-48B1-9CFB-5360F74E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9F06D-E1E1-4DA6-A93C-9106D9A5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9B030-9F76-4A8E-B045-5D8B8BB1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66FF1-0833-42B9-8E99-1810DDCA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BC7FF-CF28-453F-98E1-35657764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B0A0E-4A5C-447E-952E-C8CC4AFD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7D2A7-D052-4F26-BA89-3F90B174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7B061-A3A2-4CB1-A693-C337D0D7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27412-5F98-4E16-ACD6-BFB29761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3EF-427D-4CAD-B200-D3BFF426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6078B-83DC-4B13-9AE2-782CC5A1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B8006-0DDF-41C2-82CA-C5A29D30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EDEE2-6FD5-48BE-9C27-FAD8A5EA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1E023-0202-433C-B6DF-AFFACDA1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1E0DC-BFD1-4C85-AAAE-A79E728E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7324B-76E4-4902-831E-408D4AA0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AFB5E-86F2-44BC-BFCF-55C5A951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BF9A8-C605-4981-BBEE-0353B816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42C96-B8E5-44CD-A40C-9EA51E70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1EE2D-F823-4B1B-8EC5-E75B01F9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047D-BAE0-41BD-A01B-4010AA65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B8985-4C6D-4825-9E53-7ADD038F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AA372-F9EF-4750-AA2C-074754A2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41FBC-C617-4EAB-B52E-C2D6F4BB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7E667-730F-49EA-8C59-373AF6C3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DFBFD-7755-41B1-946A-28AE435B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2D3AA-92AF-4DA8-9F84-D633B6EB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9ADB4-8EEC-4B41-8DDD-151F69D8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C9B8E-6CB9-40AF-9DC2-48FFFEF4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AFB96-89A3-4066-A308-332D754F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C14A9-1377-4399-AD9F-3E2F45A4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540E-803A-4214-ABB1-02F1711C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E32AD-E80B-48B6-8C66-CA2C26F9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B1546-ADAB-4934-B8F3-DA058099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C35B8-A6CF-4905-B0FA-49A68D5A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7C3E1-A2E0-4A75-AACC-35D2C4A7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A4C0B-DFF5-4B11-916A-16FE6B03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13E29-B098-40A7-A798-236FA431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3D6C9-BD77-4A1A-B6BF-95A159D7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4BAEAA-C7B7-46FA-BD74-76C83541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920C7-D59F-49E4-A5C8-0DFA00A3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029A2-1D0E-49C4-AEDC-1C2DFCEA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F715-C1FA-4DEC-96DA-48452AC9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4364C-24CF-4B67-8FCF-9AB625E8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05458-054D-4F56-9E6F-3A511049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FBE2C-0F8B-4FB2-BE14-A145F553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4A812-B2CC-4441-8EFA-9849D88E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5DAB4-438B-4FBC-B07E-BB867A01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130E59-8769-4D22-9D24-3A411F55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3FFA98-B6E9-48E0-B312-C5370403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0FD8C6-1191-43ED-9E91-9EFF5717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3892F4-C9FF-4923-A08F-087EF524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411C3E-113E-48FA-B2CC-78EDF637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B9FA-3F47-49B8-8F6D-CFAA5E79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99CCC9-8A12-4417-B343-7BC484E9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819CDA-B7C5-4061-A9CB-02AA52DE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E6F203-6860-4193-9C73-3DAFB028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B7638-F149-41B1-AF5F-5849A9D3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619BD8-F17D-4FDF-852D-9B838440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49F224-A62A-44B3-B1C8-F10E8816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42E905-13A1-4DFC-A14B-83AEF499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FD1CB0-EFA6-42D9-981B-57CBF434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199DEC-9719-46E3-ABEE-E939EE82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DDD270-EAD9-4FE1-8B05-9180F539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8CFA-4256-4443-AC5E-4B4CD1E9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C98151-E69D-45B8-BA48-1F81A04C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5A0F50-3E94-4E35-A007-BB8B0505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156D51-5351-4360-A722-01D79926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9D459A-77DB-48C9-936F-FDD37D13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6469B6-DA43-40AD-AD44-06E0EAC8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B9DFF0-F985-49DE-AB70-637C5DC5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AA5C92-B8D4-436F-9507-4D2CD444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56C555-D800-4F49-81FC-BEC6A09D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B988F3-0463-49A2-9249-90ACE744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288E05-6D4B-4901-A9FE-7BC24706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F559-E84F-4D98-964F-B516E3A1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14CBBD-3AAE-4143-A8BC-4893025A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0A2CDB-FB86-4774-BACA-863C19ED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346765-FCA5-40D7-9A5B-89E32DAD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E9B50E-490B-4552-A86D-9C453DAE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20E3BA-6029-403F-B79F-C6F2AF58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BF4E79-390D-4E55-A2CD-441E2C91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AEB7EA-3F51-46D6-8802-F4B49497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2AD203-9982-4847-852F-17BD54B2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842DC7-63A2-4A12-A9A8-7120CA34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060AC-BA0E-438F-B869-236FDA28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CC35-20F0-4776-A224-08DCFD45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0D29C3-9B22-4B57-8A6E-CB6940BD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632433-D0B7-4EC3-AB71-E59F2BD9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19D4B3-2302-45E3-A15A-5758E2B3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B81340-39D1-420E-BAD6-DBBDFA6F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E19EBA-8B0B-4A28-A8E9-CA60D1E2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D21F4C-D2D9-4375-B123-4B8245DF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7A0742-1B0B-427C-B4E0-5B5A1662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83C3AB-08F0-4443-91A0-0095426E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8E7183-D1DC-4551-8FA7-94836FB8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828C28-F6FD-435F-B5EE-A955C166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6E4-58CA-4299-BEF8-1C987CCE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6B38-BC2C-45BD-9B46-1CBDF453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5B2B4C-9037-4E01-A800-EF1A6F46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301E2E-8A99-492B-B66D-A40F256B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0205D0-C06E-4EC3-B77E-94145B2A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5F4494-E6FD-4B1E-AF10-C0628634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2CDCD9-40B0-4EC4-A832-CC81155F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8E0CA6-B07A-42B3-9EB6-F847BE44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E6CBEC-4A6F-4C1C-858E-3C7BC3D5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1FDEF2-82B0-4EEC-BB7B-EA900F7E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5F123E-F34B-4F9A-994B-494E2C4B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51FC18-9103-4F2B-8BC8-D0066964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E70F-7F49-488A-9153-DD076FCE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C73F60-8225-4F4C-AE71-FA9A1896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00CF82-1312-4DB1-8F16-A64A0A6F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10D4B8-BFB5-48C0-9A91-293C5A8C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71C876-613B-4FBF-80AA-51F5F5AE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084EF8-9D23-45DC-9CFD-2CEE5FB2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9DDE31-2212-441A-B211-EFC07E44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C47714-5126-40A7-81A7-ACA7F1AC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356233-D202-41DD-8D9F-A8CB3379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6F1AF7-AAFA-4188-B359-68B4D833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5D37DD-BFA2-4225-9D98-BB218D78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241C-A4A6-400F-90DD-476A1769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62E1FA-A97E-4A52-A553-B640E7F6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6E161F-BE20-4679-BE14-1B9CEEB8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15203B-8386-4AC3-8A52-5C120FBB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4CA1F9-C1C5-4D0F-81AE-5633AF4C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E7705B-5672-4829-A8A5-391F1BFF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37E0EA-FCC1-4667-8226-C5DFA063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DEE8BE-3B73-4E26-BA36-DA333DC2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223F47-6682-4703-963C-09112347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FDF9EF-116A-4D52-87C1-4553B3A4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8F0640-E0E4-4B5A-AF68-62B3E397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6331-8E70-4EB2-98F2-45A86B31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61F565-8563-4649-B2A9-51205CB8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EFA168-4B45-4C19-B09C-D485678C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B1A7E5-D7D7-4E61-A0C5-7B2624DD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532E76-2515-449A-BBFD-1D4AB784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C32AF9-D665-4C83-91C3-1837A5CA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206B57-08BC-4350-B7FD-875F6940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6437B7-5454-4CCA-A423-891992B9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6D9125-B9E3-4DE4-9622-A0AF3BB8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1DD024-929B-4BE1-A3EA-D8AF3988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BB0687-600C-460A-85A3-4245112D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FF21-05C0-480D-84C7-47DBCDD5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708D80-101E-4B5B-819F-1C3DF630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C0AB5A-77DE-494C-9BF5-81ACC6F3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DF7BCE-18FA-40F2-A3DD-6359706F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3A6E51-1499-49B1-89C6-5853B09E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9A634B-D8E1-4512-8240-04BA43B1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2390BF-F32D-4B27-9BCC-B506BE95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D71411-C157-45D9-B174-6F8F7691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5C3D03-446F-41B4-900B-57219784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A55651-5B67-45FD-AE9A-53FDFB75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282F58-AE37-41A8-B1F0-A009C7CD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839A3-1572-4DB6-8F84-CDFD46FC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5046A4-EBB3-471C-8C35-68016FDA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72E365-9FCD-402C-984E-0ED175B6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557C37-04AA-4EB7-9427-30BC5233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D89F9F-4CF6-4313-9794-8C14D5B6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D1495E-1F5D-41D5-8E91-52B8EF57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29C520-9736-4722-A1E8-12F9E628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976278-C451-4012-BD5B-D94A35CA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AC64DC-FE4B-4757-99A3-C5A441D2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1751FA-3E63-4813-A906-32708C63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A1EEE6-4CB0-4FE7-9D8C-5A947326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68197-31C8-49AB-839B-78C10394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8A8008-EAA0-4FD6-84FE-E5F95743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BD7E30-BA14-4242-A1AC-D4D06543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7F6163-8DD5-4F59-8EB8-962BD7B5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71E6AF-8F4E-493A-82B7-542FEC36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064139-9834-4245-A64F-AAA5E843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74F58C-A2F6-4541-8BD0-E0A1523B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2D8E9C-BE9B-49B1-B654-E6140A26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BB0DBB-AADA-404C-848E-941E33EA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BF849F-49D2-4F23-AA3A-1762E349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850587-5C6F-4D9D-867E-14CE586F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B6879-3035-4863-9525-E2D5171D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99F67B-7022-4E76-859A-65621BC3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02E436-93DD-49D4-BFC4-D0F7BFF2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F87276-DB0C-45B8-82E5-7AD52E08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67C900-22E8-4203-BA0F-6A3D27AA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B75BEE-4C9A-4E2F-8A1D-9B52F6EC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C41727-C459-44B0-B553-31DC20EB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47D79F-6F65-423E-9B0C-9520D11D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03C112-28BD-44CE-AFE2-E0590284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AD9794-7641-4D14-97F7-40333685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F9FA33-1565-4A58-BF98-74FCBB7D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9C0D2-5CC7-4660-93AB-4AF454BB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21C010-0056-4AF8-ACDE-F7A47D85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8414A2-68B8-452E-92E4-2738B4AB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D1C37C-22F8-40C7-83FC-23E69608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9C0F1B-11C3-4E6E-A270-9B0D92F5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E36C4D-4747-4036-BC19-131F3EF7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C5DBEC-7AF5-4325-A723-39BE7841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9093BD-F055-430B-85E6-289553BD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41298B-4D09-4D3D-BF95-0975D230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BE5B04-1BB6-4122-9AF5-65CA44A7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C2AC7-F01F-4521-883A-5EC94487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908-8FAA-4358-A604-7D61C293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0FE08-091B-4979-94F1-D06E04F3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BD2E1-5E93-48F9-A48E-749A759B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21ADC-4D48-4884-9FA3-E62A9C6D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68873-FCB9-42E5-856B-7C5B1B40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EAAB1-142B-4BAF-B36C-FB78CC94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C9B0E-F216-4CC6-9DCB-4A1E3077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9031F-7ECB-4169-A6FB-37E41BB7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8DF9D-8C6C-446F-84DF-EE7A54FF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8F161-7904-4B24-A472-84E3F9D8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88F13-CAEA-43AD-B12A-E9979354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60C-20D3-4320-B738-ECAC321F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1D79F-2F12-435F-94AD-3330B78E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92A1E-CAAF-4E94-BE1D-E61517C3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1B2DD-7B54-4E45-A960-5A4BAB87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CEE55-0645-4DFB-B81B-3AE4DA7B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76C3C-FA8D-4614-9830-033CA68E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688F1-9052-4606-B01E-60D04736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010A5-90EF-4A69-98D8-6501EDD3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310E2-BC6E-4154-9665-B7B77394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57664-4A2D-4B7F-BF65-B8384F59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706AD-F86D-41E2-837D-133CB4CC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474-7EB6-4B8E-A814-DBF31811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A628E-4950-41F2-A75D-8AB44909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5C82F-A604-4C37-9E2F-862DCA7B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6620B-D538-44FD-93E4-44FCAB07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BE4F7-19DF-4716-9AE4-24997C19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13630-4233-4A6B-80BB-27059970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D7991-0A8B-4295-AAF9-E2A53451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B8F47-75EC-40DA-9DD1-9812DCEA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BE379-256E-4BDF-B15A-111DB931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A1509-3472-4EA9-9A3B-1505100F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1013D-5D7D-4E22-89DF-76904DBB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6424-147B-4437-BCFD-6530E13C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1A390-9036-4E14-943B-8F905CD7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1F9B3-E743-4375-A07A-8B288C44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DD83D-D8DF-4979-9A6D-2C7B3382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32CBE-92E3-4CEE-8D2F-543C0944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5E3BA-669E-46D6-9863-14FB65AB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37503-18C6-4F40-98BF-F1B70F0C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4AEF2-DF63-49F0-A055-259747CB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3DB3C-923B-45D8-9851-20F2B571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48FF0-1334-4D31-83ED-89C39C76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3182F-7D24-4F8E-8C00-15853F93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E12-413C-42F6-B3A8-98CC5AC4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00041-C3C6-42A3-8E51-1E0DC5DB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34EEE-56B5-4E56-884D-5543F2BF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38D94-2F00-4C84-A252-70A74644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06AA3-3B7E-4BB7-BD41-7951DEDB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1EDB7-C1B0-4109-B58E-ECF06AC0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D2CBE-1F2B-468B-B3BE-5E9F3647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9BC31-4F62-4EE3-B23D-ED0A41EE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69D32-5C31-4D8C-A59A-73F6E0A2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77745-AE02-4335-B147-92B07F04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7D214-F914-4752-BA70-5E4BA654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DB1-4680-4095-BEAD-1D934247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8FEC9-3543-4327-B1DE-C973A6C1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42EFD-8C37-4229-9D6E-CBFC66A1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71256-D504-4A0D-BA10-0516B2F3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3116D-FF24-4BF0-9F52-0F04935F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59D93-9EC3-457A-B6FC-38981D1F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AFF1E-C160-43BB-A88A-07D72E4E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8823B-C2D4-405E-8438-F15C01E5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B26B9-E0E4-4417-BC62-ACDB1D9A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32F17-15E3-43EC-B706-C0D86D9C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0BAD8-2E2A-41C6-8998-D852B1BE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9E5B-D80B-430D-B9AE-CB685A03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D4BB9-6418-4186-B40D-6534910F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7A176-2730-4001-84F6-8F2CB0F7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01E6A-AA9A-4BD9-B4D3-8BCE123F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3F7F7-39E7-472B-9B60-1E43FF49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1C17C-AB20-4E58-87BA-5B5C7851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5FF86-2A3D-4C46-B42F-8F5202F5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23F9C-88F4-4F3E-BCFD-FC117AD8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66A48-000B-4207-B876-8E8809D2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57979-3746-4E6A-BEC9-18E612FB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F1BEF-EAD9-4605-868C-23B1BD55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26C0-A6D9-4286-802F-CB0B4EE7B5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402D-5F47-4F42-BAD7-F4937931C3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EC7C-27C4-48D5-ABD8-B478C1D922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6A57-B337-4F21-BA94-D220D8ABF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C5C6-E3B2-4F0C-B892-2009491907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9BA8-E1FA-42B5-A1E5-42B4190037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C079-440F-4439-A499-6311D755C5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4DC3-3444-4672-90C1-CD7BFB79FC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70E7-6F5E-4A91-A0C1-74BB090A72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7102-ED47-4A1F-892F-BEBF44CFFF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37CD-29DB-408A-8C5A-9DA1774664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D8B2-FD09-4B89-900B-17FF698950C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6990-CBA4-4848-8FCE-932896CFE8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5A22-8487-4521-9EE9-49556C5AD3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F63E-A209-4590-B811-CAB36E5685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8AB4-4004-43E0-8DF4-E71993BF87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8669-5A83-45A6-A294-97FC174018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1FD2-E536-4798-99EE-B3936F8C37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123B-88D4-4DD9-A758-3148554DBE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E5CC-4CB4-498D-91FA-F258820E2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F22B-DEE0-467C-8D51-6AE976C58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E1AB-EB0D-412C-99A5-B2D9F4C330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01D6-CDA8-4D38-A396-FE7D5D9BC5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FD7D-508E-4204-AF23-019FB4E79D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4" descr="_x001b_hi_res_ozone_2002_09_24.jpg                                    00000013_x000c_Macintosh HD                   985CFB00: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49576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wan K. Bhart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SA Goddard Space Flight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eenbelt, Maryland, U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ssons Learned in Creating Long-term Ozone Datasets </a:t>
            </a:r>
            <a:br>
              <a:rPr sz="3200"/>
            </a:b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Recommendations for the Futur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nned Instruments with BUV capability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pace Climate Observatory (DSCVR): Launch early 20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ated at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grange Point (1.5 million km from Earth along the sun-earth line) to provide hourly global coverage- useful for erythemal UV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tinel 5P/TropOMI (~20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MI-like products with 7 km horizontal re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stationary Instruments (2018-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MPO (US), GEMS (S. Korea), Sentinel 4 ( ES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ole of Ground-based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Network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Creating Satellite Record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ion of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limat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n, covariance, diurnal var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etect systematic errors in satellit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ndependently verify scientific conclusions derived from satellit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Homoge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nter-calibrate satellite data across ga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ofile Shape Error in TOMS Total 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9" name="Picture 3" descr="Screen Shot 2014-05-09 at 4.49.44 PM.png"/>
          <p:cNvPicPr/>
          <p:nvPr/>
        </p:nvPicPr>
        <p:blipFill>
          <a:blip r:embed="rId1"/>
          <a:stretch/>
        </p:blipFill>
        <p:spPr>
          <a:xfrm>
            <a:off x="1219320" y="1143000"/>
            <a:ext cx="6858000" cy="4968720"/>
          </a:xfrm>
          <a:prstGeom prst="rect">
            <a:avLst/>
          </a:prstGeom>
          <a:ln w="0">
            <a:noFill/>
          </a:ln>
        </p:spPr>
      </p:pic>
      <p:sp>
        <p:nvSpPr>
          <p:cNvPr id="1060" name="TextBox 4"/>
          <p:cNvSpPr/>
          <p:nvPr/>
        </p:nvSpPr>
        <p:spPr>
          <a:xfrm>
            <a:off x="2904840" y="144792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dir View, March (sza≈lat)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61" name="Straight Arrow Connector 8"/>
          <p:cNvCxnSpPr/>
          <p:nvPr/>
        </p:nvCxnSpPr>
        <p:spPr>
          <a:xfrm flipV="1">
            <a:off x="7314840" y="1980720"/>
            <a:ext cx="229320" cy="1533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62" name="TextBox 9"/>
          <p:cNvSpPr/>
          <p:nvPr/>
        </p:nvSpPr>
        <p:spPr>
          <a:xfrm>
            <a:off x="6555960" y="205740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5˚ sza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63" name="TextBox 10"/>
          <p:cNvSpPr/>
          <p:nvPr/>
        </p:nvSpPr>
        <p:spPr>
          <a:xfrm>
            <a:off x="6555960" y="411480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5˚ sza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64" name="Straight Arrow Connector 12"/>
          <p:cNvCxnSpPr/>
          <p:nvPr/>
        </p:nvCxnSpPr>
        <p:spPr>
          <a:xfrm>
            <a:off x="7086240" y="4419360"/>
            <a:ext cx="229320" cy="15300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65" name="TextBox 14"/>
          <p:cNvSpPr/>
          <p:nvPr/>
        </p:nvSpPr>
        <p:spPr>
          <a:xfrm>
            <a:off x="1093680" y="6172200"/>
            <a:ext cx="721692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using ozonesonde climatology (mean &amp; covariance)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urnal Variation of Ozone (MLO MWR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7" name="Picture 3" descr="Screen Shot 2014-05-09 at 5.02.04 PM.png"/>
          <p:cNvPicPr/>
          <p:nvPr/>
        </p:nvPicPr>
        <p:blipFill>
          <a:blip r:embed="rId1"/>
          <a:stretch/>
        </p:blipFill>
        <p:spPr>
          <a:xfrm>
            <a:off x="380880" y="609480"/>
            <a:ext cx="8153640" cy="611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 &amp; Data Homogeniz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9" name="Picture 3" descr="TS_orig+seasanom_gsbuv_microwave_mapr_Mauna Loalay6.png"/>
          <p:cNvPicPr/>
          <p:nvPr/>
        </p:nvPicPr>
        <p:blipFill>
          <a:blip r:embed="rId1"/>
          <a:stretch/>
        </p:blipFill>
        <p:spPr>
          <a:xfrm>
            <a:off x="533520" y="762120"/>
            <a:ext cx="7238880" cy="5790960"/>
          </a:xfrm>
          <a:prstGeom prst="rect">
            <a:avLst/>
          </a:prstGeom>
          <a:ln w="0">
            <a:noFill/>
          </a:ln>
        </p:spPr>
      </p:pic>
      <p:sp>
        <p:nvSpPr>
          <p:cNvPr id="1070" name="TextBox 4"/>
          <p:cNvSpPr/>
          <p:nvPr/>
        </p:nvSpPr>
        <p:spPr>
          <a:xfrm>
            <a:off x="6564600" y="3352680"/>
            <a:ext cx="2167920" cy="337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 line: MLO MWR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71" name="TextBox 5"/>
          <p:cNvSpPr/>
          <p:nvPr/>
        </p:nvSpPr>
        <p:spPr>
          <a:xfrm>
            <a:off x="13320" y="3352680"/>
            <a:ext cx="2262600" cy="337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BUV/2 Instruments -&gt;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commendations for the Fut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zonesonde network remains critical for climatology, validation, replication and homogenization of satellite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ata below 20 km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ble Brewers with enhanced algorithm can play greater role in validating satellite da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V-type profile  algorithm can provide total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up to 88˚ SZA, and profiles better than Umkehr in only min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CD UV spectrometers should be considered for replacement of the aging Dobson networ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provide Dbl Brewer-quality total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stratospheric ozone profile and possibly tropospheric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ro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me Strategic Issues to Consid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the unquestioned importance of ozonesondes for research of processes in UTLS region, how can we best maintain and enhance the networ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we need a total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nitoring network that can independently verify satellite trend estimates, given that satellite programs are reasonably health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improve the quality/coverage of ground-based data in the upper strat. Satellite monitoring of this region is not fully assu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tellite Ozone Instrum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dir-Viewing Instru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Back-scatter UV (BUV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dir Thermal IR (TIR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mb-viewing Instru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ultation (solar, lunar, stella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V, VIS, T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mb Emi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IR, Microwav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Limb Scatte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V, VIS, SW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Picture 4" descr="Screen Shot 2014-05-09 at 2.56.00 PM.png"/>
          <p:cNvPicPr/>
          <p:nvPr/>
        </p:nvPicPr>
        <p:blipFill>
          <a:blip r:embed="rId1"/>
          <a:stretch/>
        </p:blipFill>
        <p:spPr>
          <a:xfrm>
            <a:off x="152280" y="380880"/>
            <a:ext cx="8823600" cy="59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1" descr="Screen Shot 2014-05-09 at 2.58.34 PM.png"/>
          <p:cNvPicPr/>
          <p:nvPr/>
        </p:nvPicPr>
        <p:blipFill>
          <a:blip r:embed="rId1"/>
          <a:stretch/>
        </p:blipFill>
        <p:spPr>
          <a:xfrm>
            <a:off x="228600" y="380880"/>
            <a:ext cx="870264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parison of Satellite Total 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Record (30S-30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1" name="Picture 2" descr="Screen Shot 2014-05-09 at 3.06.38 PM.png"/>
          <p:cNvPicPr/>
          <p:nvPr/>
        </p:nvPicPr>
        <p:blipFill>
          <a:blip r:embed="rId1"/>
          <a:stretch/>
        </p:blipFill>
        <p:spPr>
          <a:xfrm>
            <a:off x="152280" y="1676520"/>
            <a:ext cx="8839440" cy="2001600"/>
          </a:xfrm>
          <a:prstGeom prst="rect">
            <a:avLst/>
          </a:prstGeom>
          <a:ln w="0">
            <a:noFill/>
          </a:ln>
        </p:spPr>
      </p:pic>
      <p:cxnSp>
        <p:nvCxnSpPr>
          <p:cNvPr id="1012" name="Straight Arrow Connector 4"/>
          <p:cNvCxnSpPr/>
          <p:nvPr/>
        </p:nvCxnSpPr>
        <p:spPr>
          <a:xfrm flipV="1">
            <a:off x="5334120" y="3200400"/>
            <a:ext cx="305280" cy="7668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13" name="TextBox 5"/>
          <p:cNvSpPr/>
          <p:nvPr/>
        </p:nvSpPr>
        <p:spPr>
          <a:xfrm>
            <a:off x="4808520" y="312408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I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14" name="Straight Arrow Connector 7"/>
          <p:cNvCxnSpPr/>
          <p:nvPr/>
        </p:nvCxnSpPr>
        <p:spPr>
          <a:xfrm>
            <a:off x="7391160" y="1904760"/>
            <a:ext cx="229320" cy="7668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15" name="TextBox 8"/>
          <p:cNvSpPr/>
          <p:nvPr/>
        </p:nvSpPr>
        <p:spPr>
          <a:xfrm>
            <a:off x="6175080" y="167652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ME/SCIA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16" name="Straight Arrow Connector 10"/>
          <p:cNvCxnSpPr/>
          <p:nvPr/>
        </p:nvCxnSpPr>
        <p:spPr>
          <a:xfrm flipH="1" flipV="1">
            <a:off x="1370880" y="2894760"/>
            <a:ext cx="153000" cy="22932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17" name="TextBox 11"/>
          <p:cNvSpPr/>
          <p:nvPr/>
        </p:nvSpPr>
        <p:spPr>
          <a:xfrm>
            <a:off x="1380960" y="312408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UV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1018" name="Picture 12" descr="Screen Shot 2014-05-09 at 3.13.53 PM.png"/>
          <p:cNvPicPr/>
          <p:nvPr/>
        </p:nvPicPr>
        <p:blipFill>
          <a:blip r:embed="rId2"/>
          <a:stretch/>
        </p:blipFill>
        <p:spPr>
          <a:xfrm>
            <a:off x="330120" y="4114800"/>
            <a:ext cx="8661600" cy="1959120"/>
          </a:xfrm>
          <a:prstGeom prst="rect">
            <a:avLst/>
          </a:prstGeom>
          <a:ln w="0">
            <a:noFill/>
          </a:ln>
        </p:spPr>
      </p:pic>
      <p:sp>
        <p:nvSpPr>
          <p:cNvPr id="1019" name="Straight Connector 14"/>
          <p:cNvSpPr/>
          <p:nvPr/>
        </p:nvSpPr>
        <p:spPr>
          <a:xfrm>
            <a:off x="981000" y="5011560"/>
            <a:ext cx="7772400" cy="0"/>
          </a:xfrm>
          <a:prstGeom prst="line">
            <a:avLst/>
          </a:prstGeom>
          <a:ln w="0">
            <a:solidFill>
              <a:srgbClr val="2a1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0" name="Rectangle 15"/>
          <p:cNvSpPr/>
          <p:nvPr/>
        </p:nvSpPr>
        <p:spPr>
          <a:xfrm>
            <a:off x="990720" y="4876920"/>
            <a:ext cx="7848360" cy="228600"/>
          </a:xfrm>
          <a:prstGeom prst="rect">
            <a:avLst/>
          </a:prstGeom>
          <a:solidFill>
            <a:srgbClr val="d9d9d9">
              <a:alpha val="37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21" name="Straight Arrow Connector 17"/>
          <p:cNvCxnSpPr/>
          <p:nvPr/>
        </p:nvCxnSpPr>
        <p:spPr>
          <a:xfrm flipV="1">
            <a:off x="2361960" y="5104800"/>
            <a:ext cx="229320" cy="22932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22" name="TextBox 19"/>
          <p:cNvSpPr/>
          <p:nvPr/>
        </p:nvSpPr>
        <p:spPr>
          <a:xfrm>
            <a:off x="1689840" y="5334120"/>
            <a:ext cx="173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ME/SCIA-SBUV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3" name="TextBox 20"/>
          <p:cNvSpPr/>
          <p:nvPr/>
        </p:nvSpPr>
        <p:spPr>
          <a:xfrm>
            <a:off x="5725440" y="541008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I-SBUV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24" name="Straight Arrow Connector 22"/>
          <p:cNvCxnSpPr/>
          <p:nvPr/>
        </p:nvCxnSpPr>
        <p:spPr>
          <a:xfrm flipV="1">
            <a:off x="6781680" y="5257080"/>
            <a:ext cx="153360" cy="22932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25" name="TextBox 24"/>
          <p:cNvSpPr/>
          <p:nvPr/>
        </p:nvSpPr>
        <p:spPr>
          <a:xfrm>
            <a:off x="2010960" y="6400800"/>
            <a:ext cx="5447520" cy="3362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I/SBUV Differences are due to use of different 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bs x-section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igh Latitude Comparison (55N-60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7" name="Picture 2" descr="Screen Shot 2014-05-09 at 3.28.07 PM.png"/>
          <p:cNvPicPr/>
          <p:nvPr/>
        </p:nvPicPr>
        <p:blipFill>
          <a:blip r:embed="rId1"/>
          <a:stretch/>
        </p:blipFill>
        <p:spPr>
          <a:xfrm>
            <a:off x="79200" y="1905120"/>
            <a:ext cx="8759880" cy="1981080"/>
          </a:xfrm>
          <a:prstGeom prst="rect">
            <a:avLst/>
          </a:prstGeom>
          <a:ln w="0">
            <a:noFill/>
          </a:ln>
        </p:spPr>
      </p:pic>
      <p:sp>
        <p:nvSpPr>
          <p:cNvPr id="1028" name="Rectangle 5"/>
          <p:cNvSpPr/>
          <p:nvPr/>
        </p:nvSpPr>
        <p:spPr>
          <a:xfrm>
            <a:off x="762120" y="2666880"/>
            <a:ext cx="7924680" cy="228600"/>
          </a:xfrm>
          <a:prstGeom prst="rect">
            <a:avLst/>
          </a:prstGeom>
          <a:solidFill>
            <a:srgbClr val="d9d9d9">
              <a:alpha val="37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9" name="Straight Connector 7"/>
          <p:cNvSpPr/>
          <p:nvPr/>
        </p:nvSpPr>
        <p:spPr>
          <a:xfrm>
            <a:off x="762120" y="2808360"/>
            <a:ext cx="7924680" cy="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30" name="Straight Arrow Connector 8"/>
          <p:cNvCxnSpPr/>
          <p:nvPr/>
        </p:nvCxnSpPr>
        <p:spPr>
          <a:xfrm flipV="1">
            <a:off x="1904760" y="2971080"/>
            <a:ext cx="229320" cy="22932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31" name="TextBox 9"/>
          <p:cNvSpPr/>
          <p:nvPr/>
        </p:nvSpPr>
        <p:spPr>
          <a:xfrm>
            <a:off x="1232640" y="3200400"/>
            <a:ext cx="173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ME/SCIA-SBUV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2" name="TextBox 10"/>
          <p:cNvSpPr/>
          <p:nvPr/>
        </p:nvSpPr>
        <p:spPr>
          <a:xfrm>
            <a:off x="5877720" y="320040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I-SBUV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33" name="Straight Arrow Connector 11"/>
          <p:cNvCxnSpPr/>
          <p:nvPr/>
        </p:nvCxnSpPr>
        <p:spPr>
          <a:xfrm flipV="1">
            <a:off x="6933960" y="3047400"/>
            <a:ext cx="153000" cy="22932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34" name="TextBox 12"/>
          <p:cNvSpPr/>
          <p:nvPr/>
        </p:nvSpPr>
        <p:spPr>
          <a:xfrm>
            <a:off x="152280" y="4419720"/>
            <a:ext cx="8915400" cy="1050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Conclusion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ality of total 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ecord from satellite BUV sensors is becoming comparable of that from best quality ground station 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ison of Tropospheric Column Ozone Derived by Combining MLS and O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7" name="Picture 3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813800" cy="4800600"/>
          </a:xfrm>
          <a:prstGeom prst="rect">
            <a:avLst/>
          </a:prstGeom>
          <a:ln w="0">
            <a:noFill/>
          </a:ln>
        </p:spPr>
      </p:pic>
      <p:sp>
        <p:nvSpPr>
          <p:cNvPr id="1038" name="TextBox 4"/>
          <p:cNvSpPr/>
          <p:nvPr/>
        </p:nvSpPr>
        <p:spPr>
          <a:xfrm>
            <a:off x="3211200" y="99072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Arial"/>
              </a:rPr>
              <a:t>2005-2012 JJA averag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9" name="TextBox 1"/>
          <p:cNvSpPr/>
          <p:nvPr/>
        </p:nvSpPr>
        <p:spPr>
          <a:xfrm>
            <a:off x="1371600" y="1568520"/>
            <a:ext cx="251460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ata Assimilation 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0" name="TextBox 6"/>
          <p:cNvSpPr/>
          <p:nvPr/>
        </p:nvSpPr>
        <p:spPr>
          <a:xfrm>
            <a:off x="5181480" y="1576440"/>
            <a:ext cx="251460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rajectory Method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1" name="TextBox 8"/>
          <p:cNvSpPr/>
          <p:nvPr/>
        </p:nvSpPr>
        <p:spPr>
          <a:xfrm>
            <a:off x="1533600" y="3733920"/>
            <a:ext cx="2361960" cy="2462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Direct retrieval- no MLS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2" name="TextBox 9"/>
          <p:cNvSpPr/>
          <p:nvPr/>
        </p:nvSpPr>
        <p:spPr>
          <a:xfrm>
            <a:off x="5257800" y="3733920"/>
            <a:ext cx="2362320" cy="2462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odel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the Radiative Forcing Contribution from Tropospheric Ozo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4" name="Picture 2" descr="npp24"/>
          <p:cNvPicPr/>
          <p:nvPr/>
        </p:nvPicPr>
        <p:blipFill>
          <a:blip r:embed="rId1"/>
          <a:stretch/>
        </p:blipFill>
        <p:spPr>
          <a:xfrm>
            <a:off x="304920" y="106668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npp25"/>
          <p:cNvPicPr/>
          <p:nvPr/>
        </p:nvPicPr>
        <p:blipFill>
          <a:blip r:embed="rId2"/>
          <a:stretch/>
        </p:blipFill>
        <p:spPr>
          <a:xfrm>
            <a:off x="3352680" y="2590920"/>
            <a:ext cx="5562720" cy="3819240"/>
          </a:xfrm>
          <a:prstGeom prst="rect">
            <a:avLst/>
          </a:prstGeom>
          <a:ln w="0">
            <a:noFill/>
          </a:ln>
        </p:spPr>
      </p:pic>
      <p:sp>
        <p:nvSpPr>
          <p:cNvPr id="1046" name="TextBox 5"/>
          <p:cNvSpPr/>
          <p:nvPr/>
        </p:nvSpPr>
        <p:spPr>
          <a:xfrm>
            <a:off x="3733920" y="1208160"/>
            <a:ext cx="4952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lthough the amount of ozone in the stratosphere is 10 times more than tropospheric ozone, global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radiative forcing from tropospheric ozone is much large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than from stratospheric ozone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(IPCC 2013 Report)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7" name="TextBox 6"/>
          <p:cNvSpPr/>
          <p:nvPr/>
        </p:nvSpPr>
        <p:spPr>
          <a:xfrm>
            <a:off x="394920" y="3863880"/>
            <a:ext cx="2826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Radiative forcing from 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ropospheric ozone has clear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regional pattern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lobal increases in tropospheric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ozone and radiative forcing are 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ow detected from Aura 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OMI/MLS ozone measurem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48" name="Straight Arrow Connector 10"/>
          <p:cNvCxnSpPr/>
          <p:nvPr/>
        </p:nvCxnSpPr>
        <p:spPr>
          <a:xfrm flipV="1">
            <a:off x="2742840" y="3885480"/>
            <a:ext cx="610200" cy="153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9" name="Straight Arrow Connector 14"/>
          <p:cNvCxnSpPr/>
          <p:nvPr/>
        </p:nvCxnSpPr>
        <p:spPr>
          <a:xfrm flipV="1">
            <a:off x="2819160" y="5638320"/>
            <a:ext cx="610200" cy="153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0" name="Straight Arrow Connector 15"/>
          <p:cNvCxnSpPr/>
          <p:nvPr/>
        </p:nvCxnSpPr>
        <p:spPr>
          <a:xfrm flipH="1">
            <a:off x="3123720" y="1676160"/>
            <a:ext cx="534240" cy="766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1" name="TextBox 18"/>
          <p:cNvSpPr/>
          <p:nvPr/>
        </p:nvSpPr>
        <p:spPr>
          <a:xfrm>
            <a:off x="2499120" y="6550200"/>
            <a:ext cx="42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(J. Ziemke, P. Newman, J. Joiner, M. Olsen, P. K. Bhartia)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sessment of Satellite Perform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ty of data from BUV instruments is now roughly comparable to that from Double Brew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mb/occultation instruments provide high quality data above 20 km in tropics, 15 km elsew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p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 quality trop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lumn, but profile information is limit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9:18:23Z</dcterms:created>
  <dc:creator>RCebula</dc:creator>
  <dc:description/>
  <dc:language>en-US</dc:language>
  <cp:lastModifiedBy>Pawan Bhartia</cp:lastModifiedBy>
  <dcterms:modified xsi:type="dcterms:W3CDTF">2014-05-14T09:58:45Z</dcterms:modified>
  <cp:revision>348</cp:revision>
  <dc:subject/>
  <dc:title>Lessons learned in creating long-term ozone datasets: Recommendations for the fu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Document Symbol">
    <vt:lpwstr>*</vt:lpwstr>
  </property>
  <property fmtid="{D5CDD505-2E9C-101B-9397-08002B2CF9AE}" pid="4" name="Document Title">
    <vt:lpwstr>Lessons learned in creating long-term ozone datasets: Recommendations for the future</vt:lpwstr>
  </property>
  <property fmtid="{D5CDD505-2E9C-101B-9397-08002B2CF9AE}" pid="5" name="Presenter's Name">
    <vt:lpwstr>P.K. Bhartia</vt:lpwstr>
  </property>
  <property fmtid="{D5CDD505-2E9C-101B-9397-08002B2CF9AE}" pid="6" name="display_urn:schemas-microsoft-com:office:office#Author">
    <vt:lpwstr>orm9</vt:lpwstr>
  </property>
  <property fmtid="{D5CDD505-2E9C-101B-9397-08002B2CF9AE}" pid="7" name="display_urn:schemas-microsoft-com:office:office#Editor">
    <vt:lpwstr>orm9</vt:lpwstr>
  </property>
</Properties>
</file>