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FED-E1F7-40A9-AB7F-619FB758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Time evolution of the radiative forcing from tropospheric and stratospheric ozone from 1750 to 2010. Tropospheric ozone data ar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evenson et a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2013) scaled to give 0.40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–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010. The stratospheric ozone radiative forcing follows the functional shape of the Effective Equivalent Stratospheric Chlorine (EESC) assuming a 3-year age of air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aniel et 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, 2010) scaled to give –0.05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–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 2010.  (This is Figure 8.7 of the IPCC 2013 Repor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Top: Calculated spatial distribution of tropospheric ozone RF in units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veraged over 2005-2013.  Bottom:  Corresponding area-averaged TCO and RF for 6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-6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for the Aura time period.  The RF was estimated using the mean value of 0.40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rmalized for year 2010 from Figure 1.  Tropospheric ozone through 2013 was determined using the residual metho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iemke et a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[2006].  The numbers shown in the bottom panel for TCO and RF are the line fit slopes and their 2σ statistical uncertain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, J., E. Fleming, R. Portmann, G. Velders, C. Jackman, and A. Ravishankara, 2010: Options to accelerate ozone recovery: Ozone and climate benefits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mos. Chem. Phys.,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7697–77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nson, D. S., et al., Tropospheric ozone changes, radiative forcing and attribution to emissions in the Atmospheric Chemistry and Climate Model Inter-comparison Project (ACCMIP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mos. Chem. Phys., 1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3063–3085,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mke, J. R., S. Chandra, B. N. Duncan, et al., Tropospheric ozone determined from Aura OMI and MLS: Evaluation of measurements and comparison with the Global Modeling Initiative's Chemical Transport Mode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. Geophys. Res., 11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D19303, doi:10.1029/2006JD007089,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F73-2787-47CD-96D7-A6D35FBF4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932-79DA-4659-8D2C-0602C243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E60-DC40-4F2C-A673-8C4B37B4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9FE7C-74BE-4228-B1C1-F2836A6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5297-F90D-4BCC-A12C-2B6E71D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E7BD2-9EED-4F78-AA92-ECC07025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32C6-4A14-4B38-9327-2CB0792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063B-A0E7-46F2-8D22-C115F25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F9267-0294-4E0C-B507-77DB7F2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14266-4EA7-4F83-BE3B-C6C9755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5BE73-CA84-4141-86E5-B9107E34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F3485-F525-4378-9711-F8CEF815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73EB1-FDFA-4847-8612-F6B7E3EE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30C-2BD2-4B7A-AA55-56CE6794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C504E-C73B-4550-BC62-C34DF07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62EB3-929F-460B-9395-A5A26F7E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99CE-FF38-4AFE-A31D-F39A69F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A49E4-99F2-4642-B900-EC22778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2227A-FB4B-43C9-9766-33C3327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B343E-2E80-4E3A-B926-5E3DD5D7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E1636-A13F-4DE9-BE80-F2C4FDA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290F9-DC1C-4E4C-BDB8-A42842D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AD0E1-BA58-4D7B-A457-98FDD49B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9B06D-F04E-4F57-9413-389267F9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85F-1934-461F-A3A0-1340C6B3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C6917-DB73-46E6-8D61-BB41D1D5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0A611-80CD-4DAC-8CF6-61CE1C55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85589-97C5-43A1-B432-F54C46E3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3B305-3F75-4317-9388-03A23FC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55A4E-B14F-4DF3-AD32-DC5FDD1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3639-1868-4E2F-81EC-03BDD76C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102B-349A-4A8F-B146-1C595C1A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05ED8-2BE3-46CD-BE58-F8C15B9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53954-F27F-4633-A78C-CEB99B6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3AF6-BE25-4941-88B6-3E8F491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BC17-267A-41ED-A543-86AF876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B12C8-DF9A-417D-AE8A-0B0ABA3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E8D4E-8A29-4BAE-A791-F640857E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F40F4-4977-47E9-82B3-64BF64BB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DB8B6-D101-4149-9C77-A217BE2D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02ADE-78AC-40B5-92CA-9CE3A7D1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B056-CAF4-44CB-BA38-6B5009A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EC334-608C-49CB-9B27-CD4EF13E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B0B92-8133-4A1D-8815-3B1CD60F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B1D92-24D9-4DB7-83C3-CC3AF05D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D5D8-84EE-4476-BF72-8E527B0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CA68-CB64-42C3-BC37-C69D9F0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4FD6D-F135-4712-AD71-3BFF2C0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369C9-CF6A-4B14-967B-A7C6C877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557D1-59B7-4B7E-A964-5D6F165A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CB5EB-02B2-4EDB-95E5-FDE13291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F0F90-E377-430F-A6B7-FBEC2760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18750-9507-4672-BB96-3A124A4B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BD60B-1B3B-4BB6-8D14-675A88C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36780-BDF5-4222-AEB5-4BF3253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5E3ED-F2AA-4111-AD34-5B079F42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151EA-012F-404C-9BE4-A8394B35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8D83-0BFA-4238-9EA7-CE03C9A3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72483-7DD9-4676-B9FB-4A160B4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181CF-E2A5-4492-B31D-92420AF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0C835-AB42-40B0-A55B-767D854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7B673-CDC2-453B-B5DD-D129CFF2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B1963-2C73-46DD-A2CB-9A846184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4B985-84DF-401B-BCCE-3F800C9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107D2-40C5-4406-86EA-AF62FF9E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E5A10-7777-43D1-B4E4-51553420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070C4-2285-4D01-AF23-4F9BF2AC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A9A6F-B425-46BC-B247-27CA58E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CE58-C95E-41E6-8773-8BF570AD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951AA-12E1-42D0-A4AE-58EC07D7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15B15-6A37-4161-8EA0-E0977C6F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DD6CB-1EF3-4927-8056-3293D4E3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88E17-7B5E-4614-B4C1-743209D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22E96-054A-443F-9B32-382DA81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E2E77-8642-4E9A-B82C-3C87753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F5C3A-338C-4F2D-AA4C-F83CF83D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1585B-F0E9-40CC-A823-73C7ED25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5C2ED-34C5-43E3-8980-0D1F935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8FB14-E990-4729-8427-A1F5142B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1E11-AB75-4DB2-A035-9397D80F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08979-E866-4AD3-AA59-83F74364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328FD-A96F-4FA4-A3B4-D6A3DD2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8844A-5FF6-4209-B201-19F74833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5AE7F-048F-43AB-9EF0-3C69240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A3133-FBBC-49EC-9A8D-3697A68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08920-68CF-4EA9-AFAA-039A196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21C00-1DA2-4D7F-8248-B667855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CD13A-F781-4914-AB85-ED06A10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82511-1AAD-49B7-BCD1-3FB617AC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BB036-60DD-443D-AD4B-E50026A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DD5-1F8E-42E8-B4A6-5CA17E1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36B62-8081-4AE7-B4E7-EDD93679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CEEDD-953B-4963-B226-F8DA90D3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E973A-E765-46BD-B3E6-CDC52574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F59B9-B1F3-4AC4-A65E-EEA7A6BA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61C2F-090F-4F65-AA44-A1C822D8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0E364-23F5-4A4B-9B2D-6D985AA9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F71DD-4C72-4CBC-9935-0DA1364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D63E9-9983-46AA-B9F8-2CCCB49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EE787-CB09-4D1A-8B4C-75D43FF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14ED8-5EA5-47E8-81AC-BE212F7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8F2-F54D-4AD5-B8D9-9AC4EBA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E23BB-29F9-4B53-9C3A-08A80D1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0B0C4-9FC6-4111-9417-91047173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5F6A5-9853-4367-87CB-14F02B81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01AC5-B165-41DE-BFB0-E7D5299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B80A0-24B0-4EAC-8820-AA1272B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A4013-3BD7-4EEF-8CD4-50E528F9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BBFFE-206C-4103-ACF5-9D743A7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A37E8-A9B7-4A0D-A1BC-A3AF8E18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65E77-6B83-49B6-9452-1D12E8B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6856D-7032-4DA2-97DB-9AEBBDB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3AC-F5EA-42BC-9260-D413146A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49F4-50ED-4DD0-A448-521C4EE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7FC7F-D6D3-42F2-A158-D5F4847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54F5C-34F7-4B60-9A48-57013B4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66E5A-95BC-4DD8-A514-88401545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2E318-0EC1-44A3-9DB3-BA02A3B8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B8155-B2E5-4113-8CE0-D88C85A8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00D69-7AD0-4F28-AB4D-AB6F6DF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A3E50-39AF-48F8-97A8-7F5896FE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7BB35-8855-49E0-89FF-03F91AB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FA9BB-DEE4-4C38-97C0-06F60D32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F7594-2834-4739-B161-E3FAA22A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F94-4CFB-46F4-9F22-F3D6E9E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0DD10-96EA-442C-A6D6-5B45FF2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D37E0-637D-4046-AF84-1D98BDE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567BD-44AB-43F9-9B71-D44CA86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06204-E3EC-4693-8CEC-84D21CE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DA135-A6E3-4C8F-AC9E-60FDF49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4564A-494B-4525-BF61-337B414A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9F762-DAD3-4AE5-A76A-E3677BA9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5C14C7-DA45-419F-AE2D-0020B9A8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4D54E-F4C5-4668-B002-EA89CE44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A6BF9-EA57-4031-BE3F-343C9E0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B224-3810-4822-9611-4DC776A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B33F70-3435-4321-9476-5553C447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4AB11-F401-48AB-8435-E47E519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E9B3E-E7C0-4C4B-A625-FDB65972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4FBB4-A217-49DC-ABA9-F9FDC86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0DBB3F-05DE-41CC-84B2-D81EDC7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DDFF8-D81F-4D29-AE82-79F4C11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EAC4F-206D-4543-A57B-226A87F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BB319-9D9A-42F0-97B5-9026D843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B98BC-4DBA-4B0E-82D7-07C64C8E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29C82-A0D3-47CA-BC86-8E7F6D63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7263-B7A1-4C23-A4F7-F4A900EB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6237E-6A7A-4D2D-8834-78ECD5DB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67DF9-6ECB-4F34-A600-09C2553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139F8-C649-47C1-B565-0279E42F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B7D67-C18A-49C2-9358-10941D22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E5952-1206-4747-A3F9-E12D8489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3E0AF-7328-4A90-9868-F2BEF6A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67677-720F-4E4C-AF51-BC6E1D6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742C9-5EA4-4B1D-A66D-8ADBD15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6270E-FF0B-4616-9FCE-55650BEF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42583-C35D-4CE0-81A1-D5AF6831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980-48C1-439E-AB9C-258BA72D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34382-435F-44BF-A743-5BEB1A23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DDD5D-C5C9-4540-934E-71467AD0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2E83A-3CA8-4C0F-A357-F9DC278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81B7C-ABAD-44A2-BE7C-D4D4D04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F6E3C-33B8-4859-8436-41F2075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02C4B-2801-4BC3-B78D-A0F2E814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C4B7D-B9DA-43FD-9561-A54F2F98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E3F2E-7878-4CBB-A75D-9C44940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8F5AC-B016-4618-BC62-8436BF5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40C22-2EA1-45F7-B654-96356E9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9AF1-AFC4-4445-8B54-6F9A9E0B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CF08D-F047-4FE8-B0BC-89DAAB16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ED289-DA00-4199-A78D-AD8631DA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2A85D-AD60-4011-913D-C2AEB307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635F90-23E5-46CE-8A3D-F950B5F3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E3E20-9511-48B8-8BFB-E64034B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39501-B519-4746-B768-BF1BDFC1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F44255-BC6A-4B2A-ABF3-D30B0C62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074A0-4133-4338-B331-47335B3E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B0AD8E-F283-4DED-93EF-205742A4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BACAB-7974-49B6-90FD-1BB3891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1622-8C72-497F-BE29-8A3C0503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640F6-62E7-40E0-A0DF-C576357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DB178F-04C1-4B1E-9A76-63443F8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946ED1-046D-4FD8-BD54-4BB1711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BFC7D-33D6-40F3-B7A0-FD318EC8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B27428-6774-4A6E-9298-7FAB796D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D90A2-60B1-463F-A109-775FDB92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0B52DB-F857-47AD-B6FF-ECDA0F4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6C364C-395E-47FF-9EF6-086133E2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E06AF7-8B0B-4B05-8E33-D3F1847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9A11F-4715-4438-937B-F4AECBB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96944-3154-48FB-8EB9-822A4A9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01296-C056-4E62-A1D2-057A291E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79B78-2A46-4A13-84CB-622826E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BD1E4-C668-4F51-80DC-69DA785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D9D98-D247-4F32-A555-E3F9134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36B899-D713-4AD5-AB1C-FBAAF8B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69CF62-F904-4BEB-BCD3-F849B7BB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2D907-570A-46A4-B3F4-1B74E0C6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9AA504-CED2-47D9-B185-FF2D12F0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F6B11-6D23-4C23-A2A9-6FA36FDA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638130-CD51-4ECB-9B55-F61B8E7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A61B-66F3-403C-9AC5-BD3A2A52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77ECB3-330C-4FE0-B07F-8AE9B3A9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DF55C7-ACB6-45E6-A003-7DD69BF9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FFE04D-DE5A-40F7-8DE8-35463F37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A971A0-99B3-481A-AE40-BCEBE03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229B5E-0217-450B-98DD-F06C6A3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94161F-B92A-4501-8C64-1B630A3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7D805A-B1B8-4C34-A5C9-C385FE62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3CCA16-1BD5-40B0-A2DB-E9008BCC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136DEF-F95F-4A5E-ADB3-5525B82B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3385-447A-4099-BB27-907034CC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721-AA9C-49DB-82FA-AC4BC18D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5EBC-3ACF-47E7-A595-2C0D4990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82E9-2731-4959-AFF6-D8BAAB5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78AD-FB3B-4DA8-93EA-B21E6DB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5C81-ECB8-472E-A67E-B7C988A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F753-A8F0-498B-9C0D-A11F4E9A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17F9-E7ED-4C0B-B008-70A5F593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32B7-36A8-4DEF-81F8-9EECFC3F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CCC2C-04DE-4660-BB94-A1E10930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45E49-D0DF-457C-A188-20F5571C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38674-5FE2-4599-9FDF-52BA50D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AE-8457-466F-93B4-5E569F7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6149-6E95-4F0B-8EDB-7A4861A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7397-9B05-42A8-BB8C-227BEF7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2248-CC1B-48E5-97FF-08797D45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C711-71E5-4BF2-A9F0-176A92F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8142-C7E9-4090-B936-F7FB8CF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EF6D-4F66-46B0-BD8F-86010CA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E9BB-04A5-491F-AE30-CF8D0CC4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A58F8-0EF7-4C87-986A-57305679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DB50-57E5-47BF-AAB9-00066069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454A-5F32-48EE-A69D-3BDB7092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5A3-4FD0-4083-8C5D-D77CD25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A4A8-28CF-49BF-9C6F-0B6B9B7F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8714-27A9-44E8-947E-C19C390E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FFE2-EC43-480A-ADA9-F7076A4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6892-1532-4932-B7A8-07696D3C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A8624-A695-4AA6-8027-20953156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813E-2159-472F-8EF0-2D55CAC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7E48-9403-4E63-BD32-2B89B63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B69CE-1256-46CB-B04E-FE7B4DB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E1C3-C97D-44F3-896D-388712F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4BC42-FEEA-4777-95BC-F8259888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D11-A4D1-4145-82BB-E443C64E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967D-E13F-4C25-B021-F0AC47CD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70EE-5A38-4F40-BD41-3C529E9C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F8180-0B3A-436B-A9EC-8086DCB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558AE-0423-4A4A-8FDC-D8D166A2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367E-9CE6-4257-A5C1-FDD4DD1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17631-B7A5-45EF-99C5-5DFF18E5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8E6D-ED11-406A-BDFD-596F1A48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648E-5365-4FE1-A7DB-8FA662F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C80C1-6E31-4F78-8BBC-579BBE2F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7C84A-1E50-4570-990D-95C7ABC9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3B7-021B-4569-A750-AF0E4BC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72EA7-991A-4C25-B7D6-FA0035D6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3220-ABC2-44BB-A0E5-E7DFF9B7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A08B-1051-4368-86AE-51A073A6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77AEF-6685-4463-A26D-1970B2D8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6BA23-57FF-4664-91EA-9D2DDBDE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9278-A53D-4C72-B954-E5F7E3D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C1D95-10A9-4CFE-95FC-42FC8285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8C9C-BCFE-4762-B17E-72959C6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BEE49-BCDA-4737-8A96-7653ECC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9662-3A46-4716-80EA-6FF2D58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8AD-3D88-483A-8E01-4B0E948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2E07-9640-43B0-92BF-24C1183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75E7-96AD-45E9-A036-1CD095C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C158-3953-4954-98A7-B1F28594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83BD-7678-428C-8099-6F6B6566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40A6-D533-4F4E-953E-81F5AB16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4FB3C-58DA-465A-AD1E-D07B1673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90348-0541-467A-A772-FAD0D0F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B687-9BF1-41F9-B410-ED00C55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67714-86B6-4B88-9093-78BCF807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21C1A-615D-4E12-8C9B-C421E9CC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594-BCAB-457F-9C28-7386BB3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A068-D774-4DF6-9B2B-0185784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F8C23-5832-4BB5-99D5-9570ED1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95453-A02A-4C7F-909C-CB02D9A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FF83-DD2D-4AF8-BBC3-468C15E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2BAD-72EA-4011-8248-1E0B45A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BE8E-9794-443C-8F3D-7D953B0F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0FBA-744F-4A9B-8975-5F7ABC6C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F8B36-F20B-4360-8150-FB979FFF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142DF-4A28-4390-9BC1-D9A9474F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160DA-DC5A-4702-BD8E-F67D0BF2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BE41-5AD1-493C-A06D-2177DFF43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5262-2F9A-4CC1-9670-0C44944F3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065-D756-4EF6-B6FF-A6DB8FE9C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A785-AFB0-447C-A19B-974613714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ED38-9B97-489B-AFFC-9DC2F4E9F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C856-5ECE-4414-92A6-41AFDFE0E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A56-10F3-4B68-80B2-BB8AFD235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C5E7-E940-4A47-89DC-6361F1D44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C039-AF3F-4908-9E17-05FD3E8E6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A23-5BB3-4D21-9179-6C3E3404C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451A-772D-4C0C-A9FD-9F6C22303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194B-BE4B-4B68-8828-25535FF7CA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FB9B-2AFF-454F-9CF1-072ECC9FF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886-34B5-46D0-A607-2D0624F2E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FB4E-CBEB-4BB7-928D-14FE86DF7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318D-E122-44D2-BEF2-65DFE1383E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CF7-428F-43F0-869A-E6971BD85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85CB-48F4-4DCB-AD32-0A4A26A29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026-F323-4962-8177-47FCA2FC6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BA45-84D5-4F39-BB43-75C01E61D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731-CDD4-447A-BC79-2525A3299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4DF2-F326-48C9-AF9E-CCAEEB955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A731-C231-4DC2-93F3-73B17DB2C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33A-C792-4EC0-8282-B42B07ED5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_x001b_hi_res_ozone_2002_09_24.jpg                                    00000013_x000c_Macintosh HD                   985CFB00: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9576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wan K. Bhar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SA Goddard Space Flight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nbelt, Maryland,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sons Learned in Creating Long-term Ozone Datasets 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ecommendations for the Futu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ned Instruments with BUV capability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pace Climate Observatory (DSCVR): Launch early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d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grange Point (1.5 million km from Earth along the sun-earth line) to provide hourly global coverage- useful for erythemal U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inel 5P/TropOMI (~20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I-like products with 7 km horizont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stationary Instruments (2018-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O (US), GEMS (S. Korea), Sentinel 4 ( ES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le of Ground-based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Network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Creating Satellite Recor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ima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, covariance, diurnal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etect systematic errors in satelli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dependently verify scientific conclusions derived from satelli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Homoge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ter-calibrate satellite data across g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file Shape Error in TOMS Total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9" name="Picture 3" descr="Screen Shot 2014-05-09 at 4.49.44 PM.png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96872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4"/>
          <p:cNvSpPr/>
          <p:nvPr/>
        </p:nvSpPr>
        <p:spPr>
          <a:xfrm>
            <a:off x="2904840" y="144792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ir View, March (sza≈lat)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1" name="Straight Arrow Connector 8"/>
          <p:cNvCxnSpPr/>
          <p:nvPr/>
        </p:nvCxnSpPr>
        <p:spPr>
          <a:xfrm flipV="1">
            <a:off x="7314840" y="1980720"/>
            <a:ext cx="229320" cy="153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62" name="TextBox 9"/>
          <p:cNvSpPr/>
          <p:nvPr/>
        </p:nvSpPr>
        <p:spPr>
          <a:xfrm>
            <a:off x="6555960" y="20574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˚ sz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3" name="TextBox 10"/>
          <p:cNvSpPr/>
          <p:nvPr/>
        </p:nvSpPr>
        <p:spPr>
          <a:xfrm>
            <a:off x="6555960" y="41148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˚ sz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4" name="Straight Arrow Connector 12"/>
          <p:cNvCxnSpPr/>
          <p:nvPr/>
        </p:nvCxnSpPr>
        <p:spPr>
          <a:xfrm>
            <a:off x="7086240" y="4419360"/>
            <a:ext cx="229320" cy="15300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65" name="TextBox 14"/>
          <p:cNvSpPr/>
          <p:nvPr/>
        </p:nvSpPr>
        <p:spPr>
          <a:xfrm>
            <a:off x="1093680" y="6172200"/>
            <a:ext cx="721692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using ozonesonde climatology (mean &amp; covariance)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urnal Variation of Ozone (MLO MW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7" name="Picture 3" descr="Screen Shot 2014-05-09 at 5.02.04 PM.png"/>
          <p:cNvPicPr/>
          <p:nvPr/>
        </p:nvPicPr>
        <p:blipFill>
          <a:blip r:embed="rId1"/>
          <a:stretch/>
        </p:blipFill>
        <p:spPr>
          <a:xfrm>
            <a:off x="380880" y="609480"/>
            <a:ext cx="8153640" cy="61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&amp; Data Homogen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9" name="Picture 3" descr="TS_orig+seasanom_gsbuv_microwave_mapr_Mauna Loalay6.png"/>
          <p:cNvPicPr/>
          <p:nvPr/>
        </p:nvPicPr>
        <p:blipFill>
          <a:blip r:embed="rId1"/>
          <a:stretch/>
        </p:blipFill>
        <p:spPr>
          <a:xfrm>
            <a:off x="533520" y="762120"/>
            <a:ext cx="7238880" cy="579096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4"/>
          <p:cNvSpPr/>
          <p:nvPr/>
        </p:nvSpPr>
        <p:spPr>
          <a:xfrm>
            <a:off x="6564600" y="3352680"/>
            <a:ext cx="216792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line: MLO MWR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1" name="TextBox 5"/>
          <p:cNvSpPr/>
          <p:nvPr/>
        </p:nvSpPr>
        <p:spPr>
          <a:xfrm>
            <a:off x="13320" y="3352680"/>
            <a:ext cx="226260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UV/2 Instruments -&gt;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mmendations for the Fu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sonde network remains critical for climatology, validation, replication and homogenization of satellit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 below 20 k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Brewers with enhanced algorithm can play greater role in validating satellit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V-type profile  algorithm can provide total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p to 88˚ SZA, and profiles better than Umkehr in only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D UV spectrometers should be considered for replacement of the aging Dobson net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provide Dbl Brewer-quality total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stratospheric ozone profile and possibly tropospheric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Strategic Issues to Consi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unquestioned importance of ozonesondes for research of processes in UTLS region, how can we best maintain and enhance the net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need a total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itoring network that can independently verify satellite trend estimates, given that satellite programs are reasonably healt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improve the quality/coverage of ground-based data in the upper strat. Satellite monitoring of this region is not fully as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tellite Ozone Instru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dir-Viewing Instr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Back-scatter UV (BU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dir Thermal IR (TIR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b-viewing Instr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ultation (solar, lunar, stell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V, VIS, T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b Emi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R, Microwa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Limb Scatt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V, VIS, SW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4" descr="Screen Shot 2014-05-09 at 2.56.00 PM.png"/>
          <p:cNvPicPr/>
          <p:nvPr/>
        </p:nvPicPr>
        <p:blipFill>
          <a:blip r:embed="rId1"/>
          <a:stretch/>
        </p:blipFill>
        <p:spPr>
          <a:xfrm>
            <a:off x="152280" y="380880"/>
            <a:ext cx="8823600" cy="59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1" descr="Screen Shot 2014-05-09 at 2.58.34 PM.png"/>
          <p:cNvPicPr/>
          <p:nvPr/>
        </p:nvPicPr>
        <p:blipFill>
          <a:blip r:embed="rId1"/>
          <a:stretch/>
        </p:blipFill>
        <p:spPr>
          <a:xfrm>
            <a:off x="228600" y="380880"/>
            <a:ext cx="87026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arison of Satellite Total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Record (30S-30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1" name="Picture 2" descr="Screen Shot 2014-05-09 at 3.06.38 PM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2001600"/>
          </a:xfrm>
          <a:prstGeom prst="rect">
            <a:avLst/>
          </a:prstGeom>
          <a:ln w="0">
            <a:noFill/>
          </a:ln>
        </p:spPr>
      </p:pic>
      <p:cxnSp>
        <p:nvCxnSpPr>
          <p:cNvPr id="1012" name="Straight Arrow Connector 4"/>
          <p:cNvCxnSpPr/>
          <p:nvPr/>
        </p:nvCxnSpPr>
        <p:spPr>
          <a:xfrm flipV="1">
            <a:off x="5334120" y="3200400"/>
            <a:ext cx="305280" cy="7668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3" name="TextBox 5"/>
          <p:cNvSpPr/>
          <p:nvPr/>
        </p:nvSpPr>
        <p:spPr>
          <a:xfrm>
            <a:off x="4808520" y="3124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14" name="Straight Arrow Connector 7"/>
          <p:cNvCxnSpPr/>
          <p:nvPr/>
        </p:nvCxnSpPr>
        <p:spPr>
          <a:xfrm>
            <a:off x="7391160" y="1904760"/>
            <a:ext cx="229320" cy="7668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5" name="TextBox 8"/>
          <p:cNvSpPr/>
          <p:nvPr/>
        </p:nvSpPr>
        <p:spPr>
          <a:xfrm>
            <a:off x="6175080" y="16765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16" name="Straight Arrow Connector 10"/>
          <p:cNvCxnSpPr/>
          <p:nvPr/>
        </p:nvCxnSpPr>
        <p:spPr>
          <a:xfrm flipH="1" flipV="1">
            <a:off x="1370880" y="2894760"/>
            <a:ext cx="15300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7" name="TextBox 11"/>
          <p:cNvSpPr/>
          <p:nvPr/>
        </p:nvSpPr>
        <p:spPr>
          <a:xfrm>
            <a:off x="1380960" y="3124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018" name="Picture 12" descr="Screen Shot 2014-05-09 at 3.13.53 PM.png"/>
          <p:cNvPicPr/>
          <p:nvPr/>
        </p:nvPicPr>
        <p:blipFill>
          <a:blip r:embed="rId2"/>
          <a:stretch/>
        </p:blipFill>
        <p:spPr>
          <a:xfrm>
            <a:off x="330120" y="4114800"/>
            <a:ext cx="8661600" cy="1959120"/>
          </a:xfrm>
          <a:prstGeom prst="rect">
            <a:avLst/>
          </a:prstGeom>
          <a:ln w="0">
            <a:noFill/>
          </a:ln>
        </p:spPr>
      </p:pic>
      <p:sp>
        <p:nvSpPr>
          <p:cNvPr id="1019" name="Straight Connector 14"/>
          <p:cNvSpPr/>
          <p:nvPr/>
        </p:nvSpPr>
        <p:spPr>
          <a:xfrm>
            <a:off x="981000" y="5011560"/>
            <a:ext cx="7772400" cy="0"/>
          </a:xfrm>
          <a:prstGeom prst="line">
            <a:avLst/>
          </a:prstGeom>
          <a:ln w="0">
            <a:solidFill>
              <a:srgbClr val="2a1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990720" y="4876920"/>
            <a:ext cx="7848360" cy="228600"/>
          </a:xfrm>
          <a:prstGeom prst="rect">
            <a:avLst/>
          </a:prstGeom>
          <a:solidFill>
            <a:srgbClr val="d9d9d9">
              <a:alpha val="37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21" name="Straight Arrow Connector 17"/>
          <p:cNvCxnSpPr/>
          <p:nvPr/>
        </p:nvCxnSpPr>
        <p:spPr>
          <a:xfrm flipV="1">
            <a:off x="2361960" y="5104800"/>
            <a:ext cx="22932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22" name="TextBox 19"/>
          <p:cNvSpPr/>
          <p:nvPr/>
        </p:nvSpPr>
        <p:spPr>
          <a:xfrm>
            <a:off x="1689840" y="533412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5725440" y="541008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24" name="Straight Arrow Connector 22"/>
          <p:cNvCxnSpPr/>
          <p:nvPr/>
        </p:nvCxnSpPr>
        <p:spPr>
          <a:xfrm flipV="1">
            <a:off x="6781680" y="5257080"/>
            <a:ext cx="15336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25" name="TextBox 24"/>
          <p:cNvSpPr/>
          <p:nvPr/>
        </p:nvSpPr>
        <p:spPr>
          <a:xfrm>
            <a:off x="2010960" y="6400800"/>
            <a:ext cx="5447520" cy="33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/SBUV Differences are due to use of different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s x-section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atitude Comparison (55N-60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7" name="Picture 2" descr="Screen Shot 2014-05-09 at 3.28.07 PM.png"/>
          <p:cNvPicPr/>
          <p:nvPr/>
        </p:nvPicPr>
        <p:blipFill>
          <a:blip r:embed="rId1"/>
          <a:stretch/>
        </p:blipFill>
        <p:spPr>
          <a:xfrm>
            <a:off x="79200" y="1905120"/>
            <a:ext cx="8759880" cy="1981080"/>
          </a:xfrm>
          <a:prstGeom prst="rect">
            <a:avLst/>
          </a:prstGeom>
          <a:ln w="0">
            <a:noFill/>
          </a:ln>
        </p:spPr>
      </p:pic>
      <p:sp>
        <p:nvSpPr>
          <p:cNvPr id="1028" name="Rectangle 5"/>
          <p:cNvSpPr/>
          <p:nvPr/>
        </p:nvSpPr>
        <p:spPr>
          <a:xfrm>
            <a:off x="762120" y="2666880"/>
            <a:ext cx="7924680" cy="228600"/>
          </a:xfrm>
          <a:prstGeom prst="rect">
            <a:avLst/>
          </a:prstGeom>
          <a:solidFill>
            <a:srgbClr val="d9d9d9">
              <a:alpha val="37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9" name="Straight Connector 7"/>
          <p:cNvSpPr/>
          <p:nvPr/>
        </p:nvSpPr>
        <p:spPr>
          <a:xfrm>
            <a:off x="762120" y="280836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0" name="Straight Arrow Connector 8"/>
          <p:cNvCxnSpPr/>
          <p:nvPr/>
        </p:nvCxnSpPr>
        <p:spPr>
          <a:xfrm flipV="1">
            <a:off x="1904760" y="2971080"/>
            <a:ext cx="22932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1" name="TextBox 9"/>
          <p:cNvSpPr/>
          <p:nvPr/>
        </p:nvSpPr>
        <p:spPr>
          <a:xfrm>
            <a:off x="1232640" y="320040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2" name="TextBox 10"/>
          <p:cNvSpPr/>
          <p:nvPr/>
        </p:nvSpPr>
        <p:spPr>
          <a:xfrm>
            <a:off x="5877720" y="32004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3" name="Straight Arrow Connector 11"/>
          <p:cNvCxnSpPr/>
          <p:nvPr/>
        </p:nvCxnSpPr>
        <p:spPr>
          <a:xfrm flipV="1">
            <a:off x="6933960" y="3047400"/>
            <a:ext cx="15300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4" name="TextBox 12"/>
          <p:cNvSpPr/>
          <p:nvPr/>
        </p:nvSpPr>
        <p:spPr>
          <a:xfrm>
            <a:off x="152280" y="4419720"/>
            <a:ext cx="8915400" cy="1050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nclusion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lity of total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cord from satellite BUV sensors is becoming comparable of that from best quality ground station 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son of Tropospheric Column Ozone Derived by Combining MLS and 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813800" cy="4800600"/>
          </a:xfrm>
          <a:prstGeom prst="rect">
            <a:avLst/>
          </a:prstGeom>
          <a:ln w="0">
            <a:noFill/>
          </a:ln>
        </p:spPr>
      </p:pic>
      <p:sp>
        <p:nvSpPr>
          <p:cNvPr id="1038" name="TextBox 4"/>
          <p:cNvSpPr/>
          <p:nvPr/>
        </p:nvSpPr>
        <p:spPr>
          <a:xfrm>
            <a:off x="3211200" y="9907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Arial"/>
              </a:rPr>
              <a:t>2005-2012 JJA averag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9" name="TextBox 1"/>
          <p:cNvSpPr/>
          <p:nvPr/>
        </p:nvSpPr>
        <p:spPr>
          <a:xfrm>
            <a:off x="1371600" y="1568520"/>
            <a:ext cx="25146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ta Assimilation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0" name="TextBox 6"/>
          <p:cNvSpPr/>
          <p:nvPr/>
        </p:nvSpPr>
        <p:spPr>
          <a:xfrm>
            <a:off x="5181480" y="1576440"/>
            <a:ext cx="25146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jectory Method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1" name="TextBox 8"/>
          <p:cNvSpPr/>
          <p:nvPr/>
        </p:nvSpPr>
        <p:spPr>
          <a:xfrm>
            <a:off x="1533600" y="3733920"/>
            <a:ext cx="2361960" cy="24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rect retrieval- no MLS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5257800" y="3733920"/>
            <a:ext cx="2362320" cy="24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Radiative Forcing Contribution from Tropospheric Oz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4" name="Picture 2" descr="npp24"/>
          <p:cNvPicPr/>
          <p:nvPr/>
        </p:nvPicPr>
        <p:blipFill>
          <a:blip r:embed="rId1"/>
          <a:stretch/>
        </p:blipFill>
        <p:spPr>
          <a:xfrm>
            <a:off x="304920" y="106668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npp25"/>
          <p:cNvPicPr/>
          <p:nvPr/>
        </p:nvPicPr>
        <p:blipFill>
          <a:blip r:embed="rId2"/>
          <a:stretch/>
        </p:blipFill>
        <p:spPr>
          <a:xfrm>
            <a:off x="3352680" y="2590920"/>
            <a:ext cx="5562720" cy="3819240"/>
          </a:xfrm>
          <a:prstGeom prst="rect">
            <a:avLst/>
          </a:prstGeom>
          <a:ln w="0">
            <a:noFill/>
          </a:ln>
        </p:spPr>
      </p:pic>
      <p:sp>
        <p:nvSpPr>
          <p:cNvPr id="1046" name="TextBox 5"/>
          <p:cNvSpPr/>
          <p:nvPr/>
        </p:nvSpPr>
        <p:spPr>
          <a:xfrm>
            <a:off x="3733920" y="120816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lthough the amount of ozone in the stratosphere is 10 times more than tropospheric ozone, glob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adiative forcing from tropospheric ozone is much larg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than from stratospheric ozon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(IPCC 2013 Report)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7" name="TextBox 6"/>
          <p:cNvSpPr/>
          <p:nvPr/>
        </p:nvSpPr>
        <p:spPr>
          <a:xfrm>
            <a:off x="394920" y="3863880"/>
            <a:ext cx="282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adiative forcing from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ropospheric ozone has clear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gional pattern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increases in tropospheric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zone and radiative forcing are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ow detected from Aura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MI/MLS ozone measurem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48" name="Straight Arrow Connector 10"/>
          <p:cNvCxnSpPr/>
          <p:nvPr/>
        </p:nvCxnSpPr>
        <p:spPr>
          <a:xfrm flipV="1">
            <a:off x="2742840" y="3885480"/>
            <a:ext cx="61020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9" name="Straight Arrow Connector 14"/>
          <p:cNvCxnSpPr/>
          <p:nvPr/>
        </p:nvCxnSpPr>
        <p:spPr>
          <a:xfrm flipV="1">
            <a:off x="2819160" y="5638320"/>
            <a:ext cx="610200" cy="153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0" name="Straight Arrow Connector 15"/>
          <p:cNvCxnSpPr/>
          <p:nvPr/>
        </p:nvCxnSpPr>
        <p:spPr>
          <a:xfrm flipH="1">
            <a:off x="3123720" y="1676160"/>
            <a:ext cx="534240" cy="76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1" name="TextBox 18"/>
          <p:cNvSpPr/>
          <p:nvPr/>
        </p:nvSpPr>
        <p:spPr>
          <a:xfrm>
            <a:off x="2499120" y="6550200"/>
            <a:ext cx="42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J. Ziemke, P. Newman, J. Joiner, M. Olsen, P. K. Bhartia)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sessment of Satellite 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 data from BUV instruments is now roughly comparable to that from Double Brew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b/occultation instruments provide high quality data above 20 km in tropics, 15 km elsew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quality trop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lumn, but profile information is limi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9:18:23Z</dcterms:created>
  <dc:creator>RCebula</dc:creator>
  <dc:description/>
  <dc:language>en-US</dc:language>
  <cp:lastModifiedBy>Pawan Bhartia</cp:lastModifiedBy>
  <dcterms:modified xsi:type="dcterms:W3CDTF">2014-05-14T09:58:45Z</dcterms:modified>
  <cp:revision>348</cp:revision>
  <dc:subject/>
  <dc:title>Lessons learned in creating long-term ozone datasets: Recommendations for the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*</vt:lpwstr>
  </property>
  <property fmtid="{D5CDD505-2E9C-101B-9397-08002B2CF9AE}" pid="4" name="Document Title">
    <vt:lpwstr>Lessons learned in creating long-term ozone datasets: Recommendations for the future</vt:lpwstr>
  </property>
  <property fmtid="{D5CDD505-2E9C-101B-9397-08002B2CF9AE}" pid="5" name="Presenter's Name">
    <vt:lpwstr>P.K. Bhartia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