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116-B6BB-4C74-976B-738D1ED8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7EAC-4C6F-4DAB-B366-867E6E5C0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524E-E183-4110-9C6B-8F6B175A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F10-2646-4DE4-A19D-45B6667F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049D-1162-4AC8-8B14-955C47D5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55F5A-2145-4FA1-8326-F2A971F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7296-F8DA-432C-B5A1-7D953CF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FF7D-D323-43D9-A2E5-DF7BBCB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3B14-037C-4AA8-BD09-B37C95D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39F0D-A217-4502-A15A-38F96F4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9692-433F-456F-8A0A-88ABC61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051C-64E9-4ED5-A220-CBB87498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9C9F8-0EF0-4757-A76B-0662FA0B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23D2F-48FC-43B5-AA1F-5A05B464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9BC63-4BAD-4B29-B615-A7AFDD5B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D454-31C8-4A07-8D8C-65A194F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7EAF9-678D-4B96-A509-AE9ADE67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411F-1FEC-4BAD-94D8-56950A23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3A21A-B87E-4FF1-8DB8-908EDC6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AEF7E-4A03-41CA-9A4F-6A287C2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D3C82-70BA-4437-9D54-5A924AE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CE68D-DDAD-44E3-8FF7-0EEFF65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24C0-0C8D-496D-B95F-3D09260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2B4AA-DAB0-4837-9AB4-2933169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DB48-B4E6-48BC-B66E-7FA56C3C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9B3EC-00CA-48E0-AF91-3A65A5F0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26B7A-071B-44C0-9056-B2E0A436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4AF8E-2F8C-4406-A5D5-8F707780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D0F7C-27C4-472D-B7BA-4C8B40E9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EBF68-6739-4E74-ACDA-F1A8340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AD30E-80D2-43C1-B874-DF25C06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02121-9F3F-496F-9D33-31F4C48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4375B-141B-400F-8D3F-397A29E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E8472-1FC0-4630-9266-F6A7BA0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E9B-1A7B-4384-8328-492886FB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3F58-7202-4DE9-A6DF-4BF5DF7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6F3C5-34E0-4392-8683-1C927ED8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B8645-AC1D-4F7D-8B64-15127A60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60D97-4823-4768-941E-292928BB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50A4B-E8B4-434B-A77C-99FD8A7B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A120E-09C5-4418-BD96-FF1C7F6D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3B40F-1B93-40E9-A97E-F397FF2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D7E9B-30BD-47EF-80A1-8779F93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F1BC-1CAB-4D1E-959E-0ADB1F5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2CD15-45C8-4D0E-8068-66D3D40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D2E-8FF9-4F7C-99F6-540A84D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4AE3-728B-4FEA-A5CD-AD6EA65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02260-D37F-4AA7-985A-15B6942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9AC0-3798-402B-BCBE-DD5ACB0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73E73-7810-42BC-BC4B-DB8D4030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24139-75B1-46E2-9FCC-4302E332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BA3-AEAB-4FA0-94CB-F0AC67F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361-B862-46FD-AC44-3752A82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A81-93D6-4124-9ACE-4AC4E3D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5EF-DF5A-4C71-8B3F-F41EF95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5BD-8C10-479A-A6C1-11C1380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0FA-AD09-4145-AEFB-87FC28D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E8C-6D31-4158-928B-E754284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DD4-8C52-45DE-B98B-6E8B1BC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056-D1E9-4256-8A95-47C5910E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6F6-DF27-4F57-A73B-6FB9FE17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7A8-C3EC-4E9D-8F4A-A95B9263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5E82-778F-4741-92E2-3473A257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78E-DB7D-43E5-BBB9-97FE99D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CEDB-CC2F-4D4A-89B1-B40125B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9A7F-AB75-4C7C-9EB4-5072C5A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D19A-D2E3-443E-B23C-99A7BF99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D40D-1DCA-4865-9152-1EE1EAD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FC9-F36C-4EAF-8411-4D17BD7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10CF-3CDD-4563-9D74-781E195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474A-97BE-4754-9FBB-6C331324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719D-C64B-42DF-B18A-334E1D00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879-F5B5-40AA-8BD7-33DC0BB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A842-281A-48AD-AD02-E6F37057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4604-D6F3-4154-97D4-46957D9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A4CD-8C67-4247-B943-A3AB682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E72A-7EBB-47C4-B55A-1FA6FDF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190B-14BA-49D6-8A43-205E838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0417-F286-4479-9BA2-8D1625B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E66F-4BEA-4CE7-96BA-2C2BCED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1966-5576-4A56-B2C9-9A6A514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03D1-40FA-46FA-8CD1-18F0254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E565-5CCD-4198-9869-CA6ABCA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BDA1-AD99-498A-8F70-8E761698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9217-A43E-4D68-9D58-AD497E61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1199-7138-4FC8-A013-6B0E0BF1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C96C-F77B-43C7-836F-55CD62B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F3AE-8354-4394-9B66-ACEA6CA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94CF-315B-4E05-A08D-28ED320F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7A7D-6181-4933-B3A6-8DC1539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A31F-8A73-4899-B920-16E6266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07B1-E846-416D-A6F3-5AFA860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E64B-158D-4D9D-BF08-6A82802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03E3-4DD1-4591-8746-81E7A60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24DB-59FE-4D2F-B47A-044BD27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A4FC-97BC-41C0-983C-A02B4881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BA93-D556-489F-A8CF-481FF6EA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197D-2333-4E63-8F45-686152D2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6173-3600-4EDE-B8E0-04AC1BE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09B3-CF9A-4AD1-A9DE-4275947B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9ADB-9C65-4566-A7FD-190D592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912E-F017-48D9-976C-EA55C34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2F89-1D10-4F0E-AD17-F012BA3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C982-E677-4A4F-931E-4FBB10D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8EC2B-AFE8-4EB6-9349-02AEFB3B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2594-02CF-4B45-B0C8-DCBAA00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FF34-2E9E-438A-A129-A84FCD12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2567-D7DB-4E69-BD6D-D0EFBB91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80A4-B690-4358-A20D-A6C1B947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F5C88-F07A-4B3A-9D2F-76BA7788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0395D-85BF-40E4-9F40-8B08E00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A8FC-DD66-4B84-8D91-7B74BE7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96B41-F034-4069-A006-DD79DC80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E1A3-5484-43B9-B733-5F34FAE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66CC-3E38-4D18-8B95-1E6A03D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111F6-AE78-4D6B-B194-DFC503D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145D-F02F-41AB-A003-C5BA1170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CC25-10D8-473E-95DD-B06C0D6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C1E7-CE99-4FE3-A0B6-CA64A1B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7A23-DDA7-4D2A-9E7F-FA66F436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A993F-CA58-4FED-A08A-23570EC5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90C6E-4BC6-48D1-87F6-31EF2A00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3334-897B-4E99-9B92-A9D81C5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FBDC-B1CE-42F5-BA0C-E58A6DDC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2F992-7B48-4CD3-9851-1ABB167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698D-6F5E-41AE-9283-FAE3C0E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975F8-246D-433E-8D49-1B621D0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1A33-A73D-41C8-B660-FDB5626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3BFD-4336-412B-8304-A0BFAC11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82FE7-C509-4D27-BE83-4F4A81B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21A1-A6A6-4C46-A2EE-E1A0D8FF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700BB-D0A9-480F-BEFD-9C6997B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8847-5392-49F6-AA2C-79995510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F258-497F-4AF5-B8F5-BCDA32D1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CB4F-E758-4355-A412-52D5184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CD852-C3DE-4AFC-B47B-BE8E3199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4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62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5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7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68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69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69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69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75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79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81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4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84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dt" idx="25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90E8-E403-48F9-8BCA-CC229643B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88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88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88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88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94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98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01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3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03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dt" idx="28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E635-AC9D-4122-8C15-794CDCF7B0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207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08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208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208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214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218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20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23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dt" idx="31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C35-044E-4CE1-B56F-D02CCF5EF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81" name="Picture 96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2015-2928-4B98-9C7D-791C66FAF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323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325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326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383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426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448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3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4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5C5-C4C6-4475-87B6-9FE3D2027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52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52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2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58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62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64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dt" idx="7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D79-9898-4C9E-80DB-22A8E7D71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71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71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71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77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81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84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dt" idx="10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C06-767A-4DA6-A966-563C240592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91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91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91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97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1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03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06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dt" idx="13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66F7-F234-466C-BEF5-3EB5C1278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10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10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10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16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20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3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25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dt" idx="16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3A2-B0AB-4BEE-8F1F-E4EBEAC49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29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30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30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30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36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40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42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dt" idx="19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993C-6310-4091-884E-7C014FBA4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9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49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49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49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55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59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62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64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dt" idx="22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FAB0-FA09-45D4-935B-F663EB8DB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commendations from the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3200" spc="-1" strike="noStrike" baseline="30000">
                <a:solidFill>
                  <a:srgbClr val="00008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Meeting of the Ozone Research Managers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f the Parties to the Vienna Convention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r the Protection of the </a:t>
            </a: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Ozone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yer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TextBox 3"/>
          <p:cNvSpPr/>
          <p:nvPr/>
        </p:nvSpPr>
        <p:spPr>
          <a:xfrm>
            <a:off x="1315440" y="3886200"/>
            <a:ext cx="65145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Michael J. Kury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hairman, 8</a:t>
            </a:r>
            <a:r>
              <a:rPr b="1" i="1" lang="en-US" sz="2400" spc="-1" strike="noStrike" baseline="30000">
                <a:solidFill>
                  <a:srgbClr val="008000"/>
                </a:solidFill>
                <a:latin typeface="Arial"/>
              </a:rPr>
              <a:t>th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ORM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ddard Earth Sciences, Technology,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ities Space Research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enbelt, MD USA 207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6854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inuation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ratospheric aerosol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asurements of solar irradianc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utside of the atmosphere and its associated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essment of current temperature profile data records and measurement capabilit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leading (where appropriate) to recommendations for new temperature measurement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41904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ata Record Prior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 systematic understanding of the differences and synergies between data sets derived using different observational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better integration of ground-level, ground-based remote sensing, and satellit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further development of methods and tools for improved integration of complementary data having different scales, resolu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TextBox 3"/>
          <p:cNvSpPr/>
          <p:nvPr/>
        </p:nvSpPr>
        <p:spPr>
          <a:xfrm>
            <a:off x="638280" y="1220760"/>
            <a:ext cx="7867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veral achievements were made in response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.  Thes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obson Data Quality Workshop (Czech Republic; Feb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doption of HDF for NDACC archiving (in progr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emplate for submission of level-0 Dobson data and metadata (approval by SAG-Ozone Oct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361800" y="11430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 remained relevant at the time of the 8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Meeting and were reemphasized and expanded up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ifferent uses of ozone and UV data impose different archiving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unding agencies 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cognize archiving as resource-intensive and part of the measurement program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should require timely submi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nhance linkage among data cent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, UV, GHG, met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ccommodate different versions of measurement records and inform users of new versions of th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High priority for level-0 and metadata archiving – essential for any re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361800" y="14475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vailability of historical data is essential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or understanding the coupling between pre-1980 ozone changes and changes in surface UV and climate.  Resource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rehensive reporting of national ODS production and consump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improve emission inven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workshops to provide training on metadata collection and on the processes for data archiving.  Possible communications role for both the WMO Permanent Representatives and / or the Ozone Research Manag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TextBox 3"/>
          <p:cNvSpPr/>
          <p:nvPr/>
        </p:nvSpPr>
        <p:spPr>
          <a:xfrm>
            <a:off x="638280" y="1220760"/>
            <a:ext cx="786744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Progress was made subsequent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.  Key activiti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ocation of Dobson instruments (including refurbishment &amp; calibration and training of observ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ransfer of knowledge &amp; technology from the World Dobson Calibration Center (U.S.) to Africa and 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umerous Brewer calibrations supported by the WMO Brewer Trust Fund and by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ducational workshops under the auspices of UNEP and WMO-G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ributions to Vienna Convention Trust Fund either directly or in-kind (such as via twinning relationshi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TextBox 3"/>
          <p:cNvSpPr/>
          <p:nvPr/>
        </p:nvSpPr>
        <p:spPr>
          <a:xfrm>
            <a:off x="638280" y="990720"/>
            <a:ext cx="7867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Many of the recommendations from the 7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remained relevant at the time of the 8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Meeting. 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Specific additional recommendations were made to increase capacity in developing cou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ke surplus equipment available for redeployment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(proposed mechanism under WMO-G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upport for attendance at several specific workshops and symposi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velopment of a set of metrics by the Scientific Assessment Panels to assess effectiveness of capacity-build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d role for National Ozone Unit Offic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– focal point for information distribution, coordination with UNEP OzonAction Programme on establishment of web-based training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Box 3"/>
          <p:cNvSpPr/>
          <p:nvPr/>
        </p:nvSpPr>
        <p:spPr>
          <a:xfrm>
            <a:off x="228600" y="6858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The 8</a:t>
            </a:r>
            <a:r>
              <a:rPr b="1" i="1" lang="en-US" sz="2800" spc="-1" strike="noStrike" baseline="30000">
                <a:solidFill>
                  <a:srgbClr val="000090"/>
                </a:solidFill>
                <a:latin typeface="Arial"/>
                <a:ea typeface="Arial"/>
              </a:rPr>
              <a:t>th</a:t>
            </a: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 ORM recommendations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set against the background from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2010 Scientific Assessment of Ozon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3"/>
          <p:cNvSpPr/>
          <p:nvPr/>
        </p:nvSpPr>
        <p:spPr>
          <a:xfrm>
            <a:off x="304920" y="22096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Arial"/>
              </a:rPr>
              <a:t>Specifically, the complexities of ozone and UV science and their interactions with changing climate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ntinuation and expansion of systematic measurement and analysis capabilitie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r tracking the evolution of ozone- and climate-related source gases and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Detection and tracking the stabilization and expected recovery of stratospheric ozon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from the influence of ODSs while responding to a changing cl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Attribution of changes in radiation forcing to changes in the ozone profile or to effects of climate chang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ivation of a global record of ground-level UV rad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228600" y="23619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Arial"/>
                <a:ea typeface="Arial"/>
              </a:rPr>
              <a:t>Studies to quantify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hemical, radiative, and dynamical factors contributing to ozone layer evolution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a changing atmosphere (including studies of the consequences of climate change mitigation and adaptation strateg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nvestigat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oles and impacts of changes in stratospheric ozone and ODSs on surface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ou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nderstanding of changes in aerosol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ve to changes in volcanic activity, air pollution sources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d proposed geoengineering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effects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olar-cycle influences on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3"/>
          <p:cNvSpPr/>
          <p:nvPr/>
        </p:nvSpPr>
        <p:spPr>
          <a:xfrm>
            <a:off x="114480" y="10666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questions remain about the expected ozone recovery from the influence of ODSs and on the interrelationship between ozone and climate variability /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151920" y="11426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understand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missions (natural &amp; anthropogenic), banks, and the tropospheric / stratospheric evolution of ODSs, their substitutes, and other climate-related trace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climate change on the sources, sinks, and lifetime of such trace gas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of very short-lived species (especially in the tropi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aboratory photochemical, kinetic, and spectroscopic stud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ng to ozone evolution and its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ization and consistency of cross sections of ozone and related spec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in different wavelength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resolve the differences between tropical total-ozone trend estimates and those derived from satellite pro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allow the quantitative disaggregation of the factors affecting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t the Earth</a:t>
            </a:r>
            <a:r>
              <a:rPr b="1" lang="ja-JP" sz="2200" spc="-1" strike="noStrike">
                <a:solidFill>
                  <a:srgbClr val="00006e"/>
                </a:solidFill>
                <a:latin typeface="Arial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 surface, so that the influences of factors other than ozone can be better asse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n the effects of stratospheric ozone change, and the resulting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n human health, ecosystems, and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interactions between the effects of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those of clima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look at the environmental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ODS substitutes and their degradation products on other factors that affect human health and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3805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distribution of measurements from instrument-rich sit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areas that are poorly populated with instruments (such as in the tropics, central Asia, and southern mid-latitu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Preference for Brewers in ozone and UV monitoring expansion along with the co-location of column- and profile-measuring instr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xpansion of Umkehr ozone-profiling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Box 3"/>
          <p:cNvSpPr/>
          <p:nvPr/>
        </p:nvSpPr>
        <p:spPr>
          <a:xfrm>
            <a:off x="417600" y="10666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These observations are critical to understanding and monitoring long-term changes in atmospheric composition &amp; the associated response in ground-level UV radiation.  Global data networks (ground-based and satellite) provide the backbone of our understanding of ozone, ozone- and climate-related trace gases, and U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establish and implemen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 Operating Procedures for all instruments in network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-evaluate microwave ozone data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ensure adequate data quality in the upper stratosphe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 advance of possibly adding new stations in the Polar Regions where Umkehr data are no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cerns over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crease in ozonesonde stations reporting data to the central data archiv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especially over Asia, the Arctic, and North Amer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 ozonesonde altitude coverag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ltitudes up to 30 k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imultaneity of ozone and water vapor profiles in balloon sou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41904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remote-sensing networks providing profile data on ozone and ozone / climate-related spec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fusion of newly developed instrumental capabilit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to these networks, which provide the primary non-space-based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in situ networks for observing ODSs, ODS substitutes, and GHG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well a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xpansion of monitoring capabilities for newly emerging chemic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mainta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balloon-based measurements of ODSs to check on the behavior of these substances in a changing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continued measurement of SF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6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nd C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support of age-of-air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41904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ation of solar backscatter UV observation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 key baseline s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High vertical resolution profiles for ozone and key molecules via limb viewing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need to understand Δ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vs. ΔODS in a changing clim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pecial attention for N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s an important substance leading to ozone de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ystematic water vapor profile measurement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it is a strong driver for decadal climate 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Gap filling missions providing high vertical resolution measurements of ozone and ozone-related parameters (e.g., solar occultation FTS and limb emission instru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6:23:55Z</dcterms:created>
  <dc:creator>NASA HQ</dc:creator>
  <dc:description/>
  <dc:language>en-US</dc:language>
  <cp:lastModifiedBy>Michael Kurylo</cp:lastModifiedBy>
  <cp:lastPrinted>2008-05-05T14:42:50Z</cp:lastPrinted>
  <dcterms:modified xsi:type="dcterms:W3CDTF">2014-05-11T22:40:17Z</dcterms:modified>
  <cp:revision>148</cp:revision>
  <dc:subject/>
  <dc:title>Recommendations from the Eight Meeting of Ozone Research Manager Geneva May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0950a</vt:lpwstr>
  </property>
  <property fmtid="{D5CDD505-2E9C-101B-9397-08002B2CF9AE}" pid="4" name="Document Title">
    <vt:lpwstr>Recommendations from the Eight Meeting of Ozone Research Manager Geneva May 2011</vt:lpwstr>
  </property>
  <property fmtid="{D5CDD505-2E9C-101B-9397-08002B2CF9AE}" pid="5" name="Presenter's Name">
    <vt:lpwstr>M. Kurylo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