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 type="dt" idx="3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PlaceHolder 5"/>
          <p:cNvSpPr>
            <a:spLocks noGrp="1"/>
          </p:cNvSpPr>
          <p:nvPr>
            <p:ph type="ftr" idx="3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PlaceHolder 6"/>
          <p:cNvSpPr>
            <a:spLocks noGrp="1"/>
          </p:cNvSpPr>
          <p:nvPr>
            <p:ph type="sldNum" idx="3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67B3-D313-435C-8C45-9CE5AADE7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8BFF-B870-4203-A3E0-A229FCC91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te new ODS lifetime initi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2F6E-AA7F-4AC4-9EE0-22F89B5BA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te new ODS lifetime initi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5950-8D69-44B5-8E7E-F10A75BFD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EFF1E-A129-44FC-BB69-627BD2DE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8D0C2-25B1-46F7-BAAC-DA11EB57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A0A5F-BB31-4B9F-9BD4-47FBA6A4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003A1-BFAE-4059-8D91-B6582547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13F5F-85A6-4C76-BB89-04170951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E583C-6F26-4F51-9275-9C4509D2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B5FD5-B867-4856-8546-8DF40124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678C0-B44A-4F8D-8CBE-848685D1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12B92-6223-44F8-AA1D-0CDB9A28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0A623-7E94-4EF1-9BA3-3246E3E4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E79BE-5398-4B30-A0AE-081D23A9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6D60A-FC60-4245-9A05-CE177878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63897-51C3-42B8-BA43-3E82EB70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30FA3-4349-4313-BA83-781F424C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60E6B-5871-4B5A-9A49-E1B76C9F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CF66D-FEAC-4F60-87CC-0CC8A604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5F14A-3152-4E0D-9E8B-A4BCC154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A4212-2CFA-48DC-9E97-10B935E2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978A7-8DD3-4409-8BC0-4BD74356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4B227-46A2-4A2D-B8E2-40F079B9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4DBBA-D905-40E4-8825-505770BC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ECC82-2DCA-4CB7-BF60-D95ED094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655AE-7BAB-4DF6-8824-2A3CEE51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8B364-0721-4273-AC12-3A34751D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AE247-BC6D-47CF-959D-CE11CA83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FF3F6-1261-4487-B2CB-3611C4CE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82956-DDBA-4EA9-8FCF-5546E847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D0789-EAD7-43C8-86EA-29CC3D97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6204D-86DC-431F-99B2-618D2E2E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3CE14-B552-4C59-B144-C73866DD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CC46-C245-48B5-AAC2-A1D88AF0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5FED0-318E-4D94-8457-F570EE9F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9C0F8-A05E-4FD0-8199-667395F0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8B857-4079-4AB4-9DDF-40E74764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4A8EB-5CE7-4BD5-9103-477C604F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24337-BF35-43EB-9A01-8B95DC44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61928-E510-44A4-846C-DA0128C8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ED32C-4E8C-43C1-A17B-F519232F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C0770-4393-4803-869F-860D5A59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8724B-D710-4B69-A851-67D9FC79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5605E-B5EB-472C-B180-E5B6C097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A946-C980-4BF4-B3CC-0F5EB935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FBB88-33E4-4A48-AA5B-7B093D3F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06110-CB1E-44EF-8C09-79F97273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F881F-2315-4A45-89BC-3339A104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7B578-6051-4C9B-B369-C6072D35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74775-E8F9-42C8-9A03-5A9F20A3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A69-122A-411E-8A8A-A8465FB6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7FFD-55A6-456D-B86E-84DC5CE7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4E98-1905-49F5-A72D-28A8CF23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E3A9-5C4E-40EE-B91C-020FBA6D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B8B7-0918-4F31-BD94-33659E9E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3950-5A83-43BC-8A6B-C3901E1E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A89E-C7E6-48CA-8C77-12158547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83C1-0B16-4CD4-B6CD-ABDB1710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8E9A-0173-4533-BFE0-DFB099F2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2385-4E1D-4113-8BB9-31F20FA5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ADEA-70AD-4D43-BA62-7EBE5796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5E3E-90C5-4C8A-ADE1-B0FD8CE0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2339-2390-4EE1-8C4A-D0F0F651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5E44-8884-4638-8EA7-C70C5CEC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DCC7-183C-4507-9388-A270A8EF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F700-548B-4341-8A8F-112B9E4F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A486-81E9-4EBA-ABB2-2AD18DFF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83BF-07CF-4FE3-893F-88FDF72F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80F9-C498-410F-97AA-48FC85CC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40CE-C660-49D4-9553-88FCAE91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C859-9BEE-4ABA-B19F-D2440B89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4A78-A360-4A90-8179-872523EE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7ADC8-22FE-454D-BE41-278E29A1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DCB7A-0320-4648-86A7-D02D9C8C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3ECD4-5CA1-45C6-AF19-BB638547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2EDFC-37D8-40DB-A72E-E779DB4F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37C68-90C3-4E70-BADB-0B08BE6A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EA424-C300-44A8-95D8-ACFB00F7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9108D-FCCC-4027-9C92-78759407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DAB6C-238B-4FD2-8D18-37219808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3830F-84CF-4469-AF1D-1221A601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AA880-15C1-4A00-B84A-F61B0343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CAE58-CADC-4B47-BA36-619C42BE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EC45F-7ACA-4F59-8D93-2AB1C0A5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C31BB-C2E4-45D3-985A-78D920F1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CF884-BC1C-44B1-9C2C-4DCFF3D9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D267B-822E-4D58-84E2-38CE130F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0512D-2E8F-4B58-8810-D2A51F63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9344F-0BD9-4856-8435-6FA9B6BA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6C3E1-74DA-4DBB-8246-460A9067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8A9CC-D89B-4D31-83BA-7ED6A977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59220-6861-4D1C-A52E-49AF1F84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7DA6C-51E2-402E-B2D5-3D630791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8B8A7-25E4-4954-8E46-F868B614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5071C-2E89-473D-B76C-5142F868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FC067-19D7-45E5-9BB8-EF605635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C4879-3C39-4E16-B8C4-1C2F6078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90BC1-E691-43DC-9C5F-64291A23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68D0C-5313-49A0-980B-91901C9C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74748-BF9E-4B77-A80E-F996099B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086C9-FF90-413D-B3AE-D7BAB31C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3E55D-0216-4F9F-AE36-5338C412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4B3A6-B6DB-4975-B3CA-3BCD1865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39ADB-0D6F-4B2D-B85F-DDD11DA4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CDD76-97ED-4E88-996F-FAEE35B1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A74E0-1327-4D4D-B54F-BA052971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24536-7439-4584-945B-B33DDDE7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594B3-749C-437A-B8B0-83B128D8D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91BC9-54BF-4726-8209-896AF03CC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F2BE0-E165-444D-A540-2BFCB153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6E51F-6B81-4B4A-B902-B4B57AB7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B6660-079F-4732-B41F-EB1A14E0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C7DDE-5B1E-41BC-8DC9-D403FC5A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DFDEF-5D0D-4336-AECE-D90E51C5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161C9-185B-40AF-A1D0-8835DE8C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AC617-3C7A-4583-AE61-A745E3CE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B59FE-3C42-484A-9ECB-618A8003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B371A-FBA1-4BFE-930E-474BCDA6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7E58D-A8FE-467B-9C0B-785D1551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25B24-6394-49BA-BA2E-A3E865A4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6B040-49D6-48B2-B3FF-0FE2D632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BA5E9-29BE-413F-A2B1-B94E3218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71A5A-13F6-4183-B0EA-62D828A6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6B35A-2087-411A-9526-B8424DC9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092A5-CEAB-4912-A157-EC97A580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6E67B-7BA3-49CF-AAC9-E47A8330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D8A9D-8086-44AD-9B92-61E85630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0A9E7-2F93-45D7-B5C3-D11E2D77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49AC6-18EB-4CC6-BB9D-952C97FA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2F8A5-6A78-4B49-9B22-2BDF2CD2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ECFE8-8FE2-4DCC-8823-25D6B6A7F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1BD02-2383-42B1-83D2-83FACE2A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08C35-B401-4682-A0E7-0CD0B7D6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804DF-9422-4F5A-A16D-329557D6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A60CC-0B80-4D21-BFFD-7327ECAE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2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4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5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62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105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127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2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8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1689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1690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1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1692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1693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4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5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6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8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9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1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2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5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6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2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3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4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5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6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7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8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9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0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1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2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3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4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5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8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9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0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4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5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6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7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8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9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0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1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2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3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4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5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6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7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8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9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1750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1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2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3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4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0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1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2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3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4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5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6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7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8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9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0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1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2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3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4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5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8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92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1793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4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1815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40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1841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1842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1"/>
          <p:cNvSpPr>
            <a:spLocks noGrp="1"/>
          </p:cNvSpPr>
          <p:nvPr>
            <p:ph type="dt" idx="25"/>
          </p:nvPr>
        </p:nvSpPr>
        <p:spPr>
          <a:xfrm>
            <a:off x="6854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ftr" idx="26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 type="sldNum" idx="27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A9BB-E404-4073-88E5-693869FE97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3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1884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1885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6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1887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1888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9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0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1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3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5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6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7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8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9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0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1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3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4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5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6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8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4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5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6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7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0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1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2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3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5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8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3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5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6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7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8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9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0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2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4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1945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0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1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2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6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9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0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1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6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7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8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9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0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1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2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3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4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6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7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8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9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0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1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2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5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6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87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1988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9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2010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35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2036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2037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1"/>
          <p:cNvSpPr>
            <a:spLocks noGrp="1"/>
          </p:cNvSpPr>
          <p:nvPr>
            <p:ph type="dt" idx="28"/>
          </p:nvPr>
        </p:nvSpPr>
        <p:spPr>
          <a:xfrm>
            <a:off x="6854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 type="ftr" idx="2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 type="sldNum" idx="30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C034-AB1E-43BA-9DD6-BA350DB7EF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8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2079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2080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1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2082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2083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4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7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8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9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1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2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3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4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5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6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7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8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9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0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1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2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3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4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5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6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7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8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9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0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1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2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3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4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5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6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7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8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9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0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1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2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3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4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5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6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7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8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9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1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2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5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6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7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8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9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2140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1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2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3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4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5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6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7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8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9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0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1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2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3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4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5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6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7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8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9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0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1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2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3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4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5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6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7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8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9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0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1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2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3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4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5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6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7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8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9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0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1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2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2183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4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2205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30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2231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2232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1"/>
          <p:cNvSpPr>
            <a:spLocks noGrp="1"/>
          </p:cNvSpPr>
          <p:nvPr>
            <p:ph type="dt" idx="31"/>
          </p:nvPr>
        </p:nvSpPr>
        <p:spPr>
          <a:xfrm>
            <a:off x="6854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 type="ftr" idx="3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 type="sldNum" idx="3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5F83-9180-40BC-A6D5-DA38CAF4F3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3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5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b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7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4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6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81" name="Picture 96" descr=""/>
          <p:cNvPicPr/>
          <p:nvPr/>
        </p:nvPicPr>
        <p:blipFill>
          <a:blip r:embed="rId2"/>
          <a:stretch/>
        </p:blipFill>
        <p:spPr>
          <a:xfrm>
            <a:off x="511200" y="2460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BBA8-73B8-451E-885D-C6B084DA8E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322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323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325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326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383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5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426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448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3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475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dt" idx="4"/>
          </p:nvPr>
        </p:nvSpPr>
        <p:spPr>
          <a:xfrm>
            <a:off x="6854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066F-422E-464E-A46D-02F3CCD069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66"/>
              </a:buClr>
              <a:buFont typeface="Helvetic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519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520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522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523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580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2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623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645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70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672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dt" idx="7"/>
          </p:nvPr>
        </p:nvSpPr>
        <p:spPr>
          <a:xfrm>
            <a:off x="6854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F549-8932-4D94-8309-614521DA3A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715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6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717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718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4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775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7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818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840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65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867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dt" idx="10"/>
          </p:nvPr>
        </p:nvSpPr>
        <p:spPr>
          <a:xfrm>
            <a:off x="6854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EAD7-9E31-4153-BCA8-88C39A7744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909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910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1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912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913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9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970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2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1013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4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1035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60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1062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dt" idx="13"/>
          </p:nvPr>
        </p:nvSpPr>
        <p:spPr>
          <a:xfrm>
            <a:off x="6854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009C-CC65-4E65-9844-464F36A443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1104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1105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6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1107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1108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4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1165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7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1208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1230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55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1256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1257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dt" idx="16"/>
          </p:nvPr>
        </p:nvSpPr>
        <p:spPr>
          <a:xfrm>
            <a:off x="6854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00AE-BFF0-4353-A00E-3676AA95F8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8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1299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1300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1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1302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1303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9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1360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0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2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1403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4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1425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50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1451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1452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dt" idx="19"/>
          </p:nvPr>
        </p:nvSpPr>
        <p:spPr>
          <a:xfrm>
            <a:off x="6854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1F1D-8001-4A93-903F-7E870CDE0D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1494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1495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6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1497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1498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3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4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1555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4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7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1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5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97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1598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9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1620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45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1647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dt" idx="22"/>
          </p:nvPr>
        </p:nvSpPr>
        <p:spPr>
          <a:xfrm>
            <a:off x="6854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4F65-9605-4010-B1A9-122B303E89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152280" y="1219320"/>
            <a:ext cx="88394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Recommendations from the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8</a:t>
            </a:r>
            <a:r>
              <a:rPr b="1" lang="en-US" sz="3200" spc="-1" strike="noStrike" baseline="30000">
                <a:solidFill>
                  <a:srgbClr val="00008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 Meeting of the Ozone Research Managers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of the Parties to the Vienna Convention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r the Protection of the </a:t>
            </a:r>
            <a:r>
              <a:rPr b="1" lang="en-US" sz="3200" spc="-1" strike="noStrike">
                <a:solidFill>
                  <a:srgbClr val="000090"/>
                </a:solidFill>
                <a:latin typeface="Arial"/>
              </a:rPr>
              <a:t>Ozone 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Layer</a:t>
            </a:r>
            <a:endParaRPr b="0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1" name="TextBox 3"/>
          <p:cNvSpPr/>
          <p:nvPr/>
        </p:nvSpPr>
        <p:spPr>
          <a:xfrm>
            <a:off x="1315440" y="3886200"/>
            <a:ext cx="6514560" cy="21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Michael J. Kury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Chairman, 8</a:t>
            </a:r>
            <a:r>
              <a:rPr b="1" i="1" lang="en-US" sz="2400" spc="-1" strike="noStrike" baseline="30000">
                <a:solidFill>
                  <a:srgbClr val="008000"/>
                </a:solidFill>
                <a:latin typeface="Arial"/>
              </a:rPr>
              <a:t>th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 ORM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ddard Earth Sciences, Technology, and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iversities Space Research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ASA Goddard Space Flight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reenbelt, MD USA 207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"/>
          <p:cNvSpPr txBox="1"/>
          <p:nvPr/>
        </p:nvSpPr>
        <p:spPr>
          <a:xfrm>
            <a:off x="6854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e"/>
                </a:solidFill>
                <a:uFillTx/>
                <a:latin typeface="Arial"/>
                <a:ea typeface="Arial"/>
              </a:rPr>
              <a:t>Satellite Networks (continued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Continuation of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stratospheric aerosol measu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Measurements of solar irradiance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outside of the atmosphere and its associated ind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for an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assessment of current temperature profile data records and measurement capabilitie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leading (where appropriate) to recommendations for new temperature measurement system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Systematic Observations (continued)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"/>
          <p:cNvSpPr txBox="1"/>
          <p:nvPr/>
        </p:nvSpPr>
        <p:spPr>
          <a:xfrm>
            <a:off x="41904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ata Record Priorit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for a systematic understanding of the differences and synergies between data sets derived using different observational techn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for better integration of ground-level, ground-based remote sensing, and satellit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for further development of methods and tools for improved integration of complementary data having different scales, resolution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Systematic Observations (continued)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Data Archiving 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5" name="TextBox 3"/>
          <p:cNvSpPr/>
          <p:nvPr/>
        </p:nvSpPr>
        <p:spPr>
          <a:xfrm>
            <a:off x="638280" y="1220760"/>
            <a:ext cx="786744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Several achievements were made in response to the 7</a:t>
            </a:r>
            <a:r>
              <a:rPr b="1" lang="en-US" sz="24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 ORM Recommendations.  Thes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Dobson Data Quality Workshop (Czech Republic; Feb. 201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Adoption of HDF for NDACC archiving (in progres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Template for submission of level-0 Dobson data and metadata (approval by SAG-Ozone Oct. 201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Data Archiving (continued) 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7" name=""/>
          <p:cNvSpPr txBox="1"/>
          <p:nvPr/>
        </p:nvSpPr>
        <p:spPr>
          <a:xfrm>
            <a:off x="361800" y="1143000"/>
            <a:ext cx="842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Many 7</a:t>
            </a:r>
            <a:r>
              <a:rPr b="1" lang="en-US" sz="24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 ORM recommendations remained relevant at the time of the 8</a:t>
            </a:r>
            <a:r>
              <a:rPr b="1" lang="en-US" sz="24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 ORM Meeting and were reemphasized and expanded up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Different uses of ozone and UV data impose different archiving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Funding agencies need to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recognize archiving as resource-intensive and part of the measurement program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and should require timely submiss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Enhance linkage among data center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(O</a:t>
            </a:r>
            <a:r>
              <a:rPr b="1" lang="en-US" sz="2200" spc="-1" strike="noStrike" baseline="-25000">
                <a:solidFill>
                  <a:srgbClr val="00006e"/>
                </a:solidFill>
                <a:latin typeface="Arial"/>
                <a:ea typeface="Arial"/>
              </a:rPr>
              <a:t>3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, UV, GHG, met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Accommodate different versions of measurement records and inform users of new versions of the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High priority for level-0 and metadata archiving – essential for any reproce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Data Archiving (continued) 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9" name=""/>
          <p:cNvSpPr txBox="1"/>
          <p:nvPr/>
        </p:nvSpPr>
        <p:spPr>
          <a:xfrm>
            <a:off x="361800" y="1447560"/>
            <a:ext cx="8420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Availability of historical data is essential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for understanding the coupling between pre-1980 ozone changes and changes in surface UV and climate.  Resources requi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f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comprehensive reporting of national ODS production and consumption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to improve emission invent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for workshops to provide training on metadata collection and on the processes for data archiving.  Possible communications role for both the WMO Permanent Representatives and / or the Ozone Research Manag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Capacity Building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1" name="TextBox 3"/>
          <p:cNvSpPr/>
          <p:nvPr/>
        </p:nvSpPr>
        <p:spPr>
          <a:xfrm>
            <a:off x="638280" y="1220760"/>
            <a:ext cx="786744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Progress was made subsequent to the 7</a:t>
            </a:r>
            <a:r>
              <a:rPr b="1" lang="en-US" sz="24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 ORM.  Key activiti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Relocation of Dobson instruments (including refurbishment &amp; calibration and training of observ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Transfer of knowledge &amp; technology from the World Dobson Calibration Center (U.S.) to Africa and South Amer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umerous Brewer calibrations supported by the WMO Brewer Trust Fund and by Can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Educational workshops under the auspices of UNEP and WMO-G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Contributions to Vienna Convention Trust Fund either directly or in-kind (such as via twinning relationship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Capacity Building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3" name="TextBox 3"/>
          <p:cNvSpPr/>
          <p:nvPr/>
        </p:nvSpPr>
        <p:spPr>
          <a:xfrm>
            <a:off x="638280" y="990720"/>
            <a:ext cx="7867440" cy="54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"/>
              </a:rPr>
              <a:t>Many of the recommendations from the 7</a:t>
            </a:r>
            <a:r>
              <a:rPr b="1" lang="en-US" sz="22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"/>
              </a:rPr>
              <a:t> ORM </a:t>
            </a: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"/>
              </a:rPr>
              <a:t>remained relevant at the time of the 8</a:t>
            </a:r>
            <a:r>
              <a:rPr b="1" lang="en-US" sz="22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"/>
              </a:rPr>
              <a:t> ORM Meeting.  </a:t>
            </a: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"/>
              </a:rPr>
              <a:t>Specific additional recommendations were made to increase capacity in developing countr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Make surplus equipment available for redeployment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 (proposed mechanism under WMO-GA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upport for attendance at several specific workshops and symposiu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Development of a set of metrics by the Scientific Assessment Panels to assess effectiveness of capacity-building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Increased role for National Ozone Unit Officer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– focal point for information distribution, coordination with UNEP OzonAction Programme on establishment of web-based training cour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TextBox 3"/>
          <p:cNvSpPr/>
          <p:nvPr/>
        </p:nvSpPr>
        <p:spPr>
          <a:xfrm>
            <a:off x="228600" y="6858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0"/>
                </a:solidFill>
                <a:latin typeface="Arial"/>
                <a:ea typeface="Arial"/>
              </a:rPr>
              <a:t>The 8</a:t>
            </a:r>
            <a:r>
              <a:rPr b="1" i="1" lang="en-US" sz="2800" spc="-1" strike="noStrike" baseline="30000">
                <a:solidFill>
                  <a:srgbClr val="000090"/>
                </a:solidFill>
                <a:latin typeface="Arial"/>
                <a:ea typeface="Arial"/>
              </a:rPr>
              <a:t>th</a:t>
            </a:r>
            <a:r>
              <a:rPr b="1" i="1" lang="en-US" sz="2800" spc="-1" strike="noStrike">
                <a:solidFill>
                  <a:srgbClr val="000090"/>
                </a:solidFill>
                <a:latin typeface="Arial"/>
                <a:ea typeface="Arial"/>
              </a:rPr>
              <a:t> ORM recommendations w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0"/>
                </a:solidFill>
                <a:latin typeface="Arial"/>
                <a:ea typeface="Arial"/>
              </a:rPr>
              <a:t>set against the background from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0"/>
                </a:solidFill>
                <a:latin typeface="Arial"/>
                <a:ea typeface="Arial"/>
              </a:rPr>
              <a:t>2010 Scientific Assessment of Ozone De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Rectangle 3"/>
          <p:cNvSpPr/>
          <p:nvPr/>
        </p:nvSpPr>
        <p:spPr>
          <a:xfrm>
            <a:off x="304920" y="2209680"/>
            <a:ext cx="86104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Arial"/>
              </a:rPr>
              <a:t>Specifically, the complexities of ozone and UV science and their interactions with changing climate requ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Aft>
                <a:spcPts val="1001"/>
              </a:spcAft>
              <a:buClr>
                <a:srgbClr val="ff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Continuation and expansion of systematic measurement and analysis capabilities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or tracking the evolution of ozone- and climate-related source gases and paramet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Aft>
                <a:spcPts val="1001"/>
              </a:spcAft>
              <a:buClr>
                <a:srgbClr val="ff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Detection and tracking the stabilization and expected recovery of stratospheric ozone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from the influence of ODSs while responding to a changing clim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Aft>
                <a:spcPts val="1001"/>
              </a:spcAft>
              <a:buClr>
                <a:srgbClr val="ff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Attribution of changes in radiation forcing to changes in the ozone profile or to effects of climate change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erivation of a global record of ground-level UV radi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Research Needs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5" name=""/>
          <p:cNvSpPr txBox="1"/>
          <p:nvPr/>
        </p:nvSpPr>
        <p:spPr>
          <a:xfrm>
            <a:off x="228600" y="23619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0"/>
                </a:solidFill>
                <a:latin typeface="Arial"/>
                <a:ea typeface="Arial"/>
              </a:rPr>
              <a:t>Studies to quantify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chemical, radiative, and dynamical factors contributing to ozone layer evolution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 in a changing atmosphere (including studies of the consequences of climate change mitigation and adaptation strateg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to investigate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roles and impacts of changes in stratospheric ozone and ODSs on surface clim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to improve ou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understanding of changes in aerosol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relative to changes in volcanic activity, air pollution sources,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and proposed geoengineering approa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of the effects of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solar-cycle influences on clim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TextBox 3"/>
          <p:cNvSpPr/>
          <p:nvPr/>
        </p:nvSpPr>
        <p:spPr>
          <a:xfrm>
            <a:off x="114480" y="10666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Many questions remain about the expected ozone recovery from the influence of ODSs and on the interrelationship between ozone and climate variability /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Research Needs (continued)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8" name=""/>
          <p:cNvSpPr txBox="1"/>
          <p:nvPr/>
        </p:nvSpPr>
        <p:spPr>
          <a:xfrm>
            <a:off x="151920" y="11426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to understand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emissions (natural &amp; anthropogenic), banks, and the tropospheric / stratospheric evolution of ODSs, their substitutes, and other climate-related trace g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of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effects of climate change on the sources, sinks, and lifetime of such trace gase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and of very short-lived species (especially in the tropic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Laboratory photochemical, kinetic, and spectroscopic studie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relating to ozone evolution and its monit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to improve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standardization and consistency of cross sections of ozone and related specie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in different wavelength reg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to resolve the differences between tropical total-ozone trend estimates and those derived from satellite pro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"/>
          <p:cNvSpPr txBox="1"/>
          <p:nvPr/>
        </p:nvSpPr>
        <p:spPr>
          <a:xfrm>
            <a:off x="2286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that allow the quantitative disaggregation of the factors affecting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UV radiation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at the Earth</a:t>
            </a:r>
            <a:r>
              <a:rPr b="1" lang="ja-JP" sz="2200" spc="-1" strike="noStrike">
                <a:solidFill>
                  <a:srgbClr val="00006e"/>
                </a:solidFill>
                <a:latin typeface="Arial"/>
                <a:ea typeface="Arial"/>
              </a:rPr>
              <a:t>’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 surface, so that the influences of factors other than ozone can be better asses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on the effects of stratospheric ozone change, and the resulting changes in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UV radiation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on human health, ecosystems, and mater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of the interactions between the effects of changes in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UV radiation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and those of climate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that look at the environmental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effects of ODS substitutes and their degradation products on other factors that affect human health and the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Research Needs (continued)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Systematic Observations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2" name=""/>
          <p:cNvSpPr txBox="1"/>
          <p:nvPr/>
        </p:nvSpPr>
        <p:spPr>
          <a:xfrm>
            <a:off x="380520" y="335232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e"/>
                </a:solidFill>
                <a:uFillTx/>
                <a:latin typeface="Arial"/>
                <a:ea typeface="Arial"/>
              </a:rPr>
              <a:t>Ground-Based Network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4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Redistribution of measurements from instrument-rich site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to areas that are poorly populated with instruments (such as in the tropics, central Asia, and southern mid-latitud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400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Preference for Brewers in ozone and UV monitoring expansion along with the co-location of column- and profile-measuring instru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400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Expansion of Umkehr ozone-profiling capab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TextBox 3"/>
          <p:cNvSpPr/>
          <p:nvPr/>
        </p:nvSpPr>
        <p:spPr>
          <a:xfrm>
            <a:off x="417600" y="1066680"/>
            <a:ext cx="84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These observations are critical to understanding and monitoring long-term changes in atmospheric composition &amp; the associated response in ground-level UV radiation.  Global data networks (ground-based and satellite) provide the backbone of our understanding of ozone, ozone- and climate-related trace gases, and U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Systematic Observations (continued)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5" name=""/>
          <p:cNvSpPr txBox="1"/>
          <p:nvPr/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e"/>
                </a:solidFill>
                <a:uFillTx/>
                <a:latin typeface="Arial"/>
                <a:ea typeface="Arial"/>
              </a:rPr>
              <a:t>Ground-Based Networks (continued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to establish and implement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Standard Operating Procedures for all instruments in network op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to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re-evaluate microwave ozone data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to ensure adequate data quality in the upper stratospher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in advance of possibly adding new stations in the Polar Regions where Umkehr data are not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Concerns over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decrease in ozonesonde stations reporting data to the central data archive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(especially over Asia, the Arctic, and North Ameri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to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increase ozonesonde altitude coverage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(altitudes up to 30 k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f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simultaneity of ozone and water vapor profiles in balloon sound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"/>
          <p:cNvSpPr txBox="1"/>
          <p:nvPr/>
        </p:nvSpPr>
        <p:spPr>
          <a:xfrm>
            <a:off x="41904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e"/>
                </a:solidFill>
                <a:uFillTx/>
                <a:latin typeface="Arial"/>
                <a:ea typeface="Arial"/>
              </a:rPr>
              <a:t>Ground-Based Networks (continued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Continuity of remote-sensing networks providing profile data on ozone and ozone / climate-related species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Infusion of newly developed instrumental capabilities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 into these networks, which provide the primary non-space-based observ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Continuity of in situ networks for observing ODSs, ODS substitutes, and GHG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as well as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expansion of monitoring capabilities for newly emerging chemic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to maintain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balloon-based measurements of ODSs to check on the behavior of these substances in a changing clim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for continued measurement of SF</a:t>
            </a:r>
            <a:r>
              <a:rPr b="1" lang="en-US" sz="2200" spc="-1" strike="noStrike" baseline="-25000">
                <a:solidFill>
                  <a:srgbClr val="00006e"/>
                </a:solidFill>
                <a:latin typeface="Arial"/>
                <a:ea typeface="Arial"/>
              </a:rPr>
              <a:t>6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 and CO</a:t>
            </a:r>
            <a:r>
              <a:rPr b="1" lang="en-US" sz="2200" spc="-1" strike="noStrike" baseline="-25000">
                <a:solidFill>
                  <a:srgbClr val="00006e"/>
                </a:solidFill>
                <a:latin typeface="Arial"/>
                <a:ea typeface="Arial"/>
              </a:rPr>
              <a:t>2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 in support of age-of-air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Systematic Observations (continued)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"/>
          <p:cNvSpPr txBox="1"/>
          <p:nvPr/>
        </p:nvSpPr>
        <p:spPr>
          <a:xfrm>
            <a:off x="41904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e"/>
                </a:solidFill>
                <a:uFillTx/>
                <a:latin typeface="Arial"/>
                <a:ea typeface="Arial"/>
              </a:rPr>
              <a:t>Satellite Network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Continuation of solar backscatter UV observation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(a key baseline s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High vertical resolution profiles for ozone and key molecules via limb viewing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(need to understand ΔO</a:t>
            </a:r>
            <a:r>
              <a:rPr b="1" lang="en-US" sz="2200" spc="-1" strike="noStrike" baseline="-25000">
                <a:solidFill>
                  <a:srgbClr val="00006e"/>
                </a:solidFill>
                <a:latin typeface="Arial"/>
                <a:ea typeface="Arial"/>
              </a:rPr>
              <a:t>3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 vs. ΔODS in a changing clima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Special attention for N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O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 as an important substance leading to ozone deple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f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systematic water vapor profile measurement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as it is a strong driver for decadal climate vari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Gap filling missions providing high vertical resolution measurements of ozone and ozone-related parameters (e.g., solar occultation FTS and limb emission instrume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Systematic Observations (continued)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6:23:55Z</dcterms:created>
  <dc:creator>NASA HQ</dc:creator>
  <dc:description/>
  <dc:language>en-US</dc:language>
  <cp:lastModifiedBy>Michael Kurylo</cp:lastModifiedBy>
  <cp:lastPrinted>2008-05-05T14:42:50Z</cp:lastPrinted>
  <dcterms:modified xsi:type="dcterms:W3CDTF">2014-05-11T22:40:17Z</dcterms:modified>
  <cp:revision>148</cp:revision>
  <dc:subject/>
  <dc:title>Recommendations from the Eight Meeting of Ozone Research Manager Geneva May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Document Symbol">
    <vt:lpwstr>0950a</vt:lpwstr>
  </property>
  <property fmtid="{D5CDD505-2E9C-101B-9397-08002B2CF9AE}" pid="4" name="Document Title">
    <vt:lpwstr>Recommendations from the Eight Meeting of Ozone Research Manager Geneva May 2011</vt:lpwstr>
  </property>
  <property fmtid="{D5CDD505-2E9C-101B-9397-08002B2CF9AE}" pid="5" name="Presenter's Name">
    <vt:lpwstr>M. Kurylo</vt:lpwstr>
  </property>
  <property fmtid="{D5CDD505-2E9C-101B-9397-08002B2CF9AE}" pid="6" name="display_urn:schemas-microsoft-com:office:office#Author">
    <vt:lpwstr>orm9</vt:lpwstr>
  </property>
  <property fmtid="{D5CDD505-2E9C-101B-9397-08002B2CF9AE}" pid="7" name="display_urn:schemas-microsoft-com:office:office#Editor">
    <vt:lpwstr>orm9</vt:lpwstr>
  </property>
</Properties>
</file>